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9108-BBC1-4922-8464-5FFC59EFC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5B64-7C6E-48A5-BB98-2716C61164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56E-9F62-4F6E-80F4-7E9B2F30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855-197E-4FBA-B1C7-76EA2DC9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9318F-1E19-4C1A-916C-3455CFC2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E8459-5427-44EE-9643-45F747FF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44C29-D65E-4BD5-984B-A0B7C311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8C39-F213-46E4-8BD6-CF4EF4D3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FEF5E-44E3-4A59-AF9F-D71ECA9F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697BE-51AF-458A-B511-4F209EBD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79169-C70F-4BF1-BDDD-DED1DB8B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44263-3C54-4C0F-BE4C-7FE8C66A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F2997-F96C-45C7-B7E6-98AFE063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542-922A-4A93-AA97-6E01C069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938-7D02-42B7-86E1-3C8EE8DF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C69-29A0-4BAE-AF2F-E31E76D4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CA2-D0FE-4C60-B85A-460851EF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58CA-FB63-4890-9F9E-A1A93EBA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91FC-EDD6-45B7-B1C2-88328DB2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4EB1-2210-4FCC-B09E-9494CD80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165-F46F-41C2-813D-9D6E483E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3698-0727-4476-BCBC-9DF59884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F058-04AD-4A49-B3B8-9A44C429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5B01-163E-4060-875D-A31E6E0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CA7D-163D-4691-9C2E-6D0224B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F92E-3FE5-4135-9932-2117711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0FE0-80F6-46D0-A372-2E04C5B2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9120-5DF9-4E61-9E86-D8A0F96B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7B02-88E5-4A6E-9BB6-CEA3643C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3228-F315-4CA6-B0B4-99BE3297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7EC6-5C90-4B07-BE34-98E5D3D4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9A1-076C-43D6-9A0F-B5D6B46D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5FBD-1D38-41EB-ADF4-70647CB6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480E-827D-4F1A-B1B9-3CCA5F4E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07D3-AC60-4D02-A775-29D93FE3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CD42-CB57-4E1F-A1E1-7911A451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A830-FC83-4777-A4A6-04D31AF3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2EE0-0146-4126-9CA3-1EF0089B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2278-78EF-4161-9A15-61C66769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207D-ADE2-4D78-8871-79BC01B6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6C29-3DE3-40B1-9D22-0F34A220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59F4-53D1-4AA6-9465-2E3F6A8C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2B4-E56C-415D-9320-D81A76DB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61F1-A894-4784-8680-E38EEA2D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D1F09-2F9C-4883-8F18-3E8B30DF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A10C-5D9B-426F-BC6B-2F7BA495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4117A-E4BD-42F0-9B22-0C1B5BB3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ADB2B-455D-4CD8-8BEC-0C068607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AA5A-3AF6-4AC3-AB74-D215F015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10D9-9440-4BD3-B563-09D36104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1BF06-2BE6-4E0C-9882-A636B357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2ECE-09EE-4160-9266-F077D246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62129-CBED-4A9B-8C9C-8A11F13D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EBE-8AF3-4310-9F13-47F8069E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6815A-9F14-4B0E-83D1-DE32EF42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F9F8-6166-464E-8826-FDC1F237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E6C4-A5C1-4A7C-9583-8B010925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C5C7-AB35-473F-97B8-3B2CD652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A4DF9-8C42-4FEF-8D80-B19C4487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FF8EF-01F8-4062-8AEC-DFC0F765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7D6F7-551C-4228-8E30-1F0E3BA9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96EE9-ABB9-4F2C-A516-DD8245F5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29B7A-535D-409B-A87E-9D8E68A7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C7964-C61A-480B-83C0-2D6CCEDE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58F-2195-4FD8-AE81-AD5EB1C8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6B85E-8FE0-47AC-931F-D42022C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E1FD0-14D1-4972-A794-76664E12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6CDF-FE14-4987-82D4-6CAE0BF3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B44EC-2997-45F1-BE95-BC664421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C21CD-E737-4066-890B-A6DB4141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48709-1E42-4CCC-8B87-44D0C11B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1F82C-876C-4BF6-8F99-2D46A5FC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181D0-0714-4A70-9FF7-F2AE1EE5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11F5E-3C31-41AA-BD6A-17D4E918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D82DE-B75C-44C9-B358-703C4BD2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E60-C52C-4869-8C04-0B7A1AFA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43F5F-B0F7-4AB6-A0D9-98F9ADF9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718A3-8ABB-4841-B498-5A429B89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A0EC6-38B0-4CD2-807D-61E89CF0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3394B-F36C-47C6-98FD-9E2B445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AC6CC-528C-438A-9933-FD0638EE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FCAC6-C3B4-4734-A023-CFA8E589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AD90F-EC5A-454D-827C-211C9B3F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E7F03-F202-40FE-8D9B-DAAA275C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305F9-E3DF-45A9-ACFC-0C2C5759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B09DE-00FB-4D38-8683-F1267054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3BB7-4CFC-4460-930B-41765B04841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Box 22"/>
          <p:cNvSpPr/>
          <p:nvPr/>
        </p:nvSpPr>
        <p:spPr>
          <a:xfrm>
            <a:off x="5651640" y="635796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3263c"/>
                </a:solidFill>
                <a:latin typeface="Arial"/>
              </a:rPr>
              <a:t>JSN Budapest, 15-16 September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drian\Desktop\dstf-logo2.png"/>
          <p:cNvPicPr/>
          <p:nvPr/>
        </p:nvPicPr>
        <p:blipFill>
          <a:blip r:embed="rId4"/>
          <a:stretch/>
        </p:blipFill>
        <p:spPr>
          <a:xfrm>
            <a:off x="0" y="0"/>
            <a:ext cx="907920" cy="907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adrian\Desktop\dstf-logo2.png"/>
          <p:cNvPicPr/>
          <p:nvPr/>
        </p:nvPicPr>
        <p:blipFill>
          <a:blip r:embed="rId4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2"/>
          <p:cNvSpPr/>
          <p:nvPr/>
        </p:nvSpPr>
        <p:spPr>
          <a:xfrm>
            <a:off x="5651640" y="650556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3263c"/>
                </a:solidFill>
                <a:latin typeface="Arial"/>
              </a:rPr>
              <a:t>JSN Budapest, 15-16 September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7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6656-8A65-428A-854E-42F9F41DBB2C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9C1D-A2BD-455A-BE01-1195833BC708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E2B3-80AF-4CA1-B056-2E72B534AD1E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5ECA-8E3E-4D86-86D0-D7081F960EB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3038-0B82-41AF-900B-3E1E76126DF8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9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2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1D8E-7CB5-422F-9B03-463E9BC72C9F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785520" y="5398920"/>
            <a:ext cx="8072280" cy="119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r. Cristina Sandu  - Danube Sturgeon Task Force (DSTF), EUSDR – PA 0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 Institute of Biology Bucharest, Romanian Academy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 International Association for Danube Research (IAD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785880" y="-24300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160"/>
                </a:solidFill>
                <a:latin typeface="Arial"/>
              </a:rPr>
              <a:t>Environmental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160"/>
                </a:solidFill>
                <a:latin typeface="Arial"/>
              </a:rPr>
              <a:t>and navigation improve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5160"/>
                </a:solidFill>
                <a:latin typeface="Arial"/>
              </a:rPr>
              <a:t>in the Danube River Bas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C:\Users\Crist\Desktop\Danube delta .jpg"/>
          <p:cNvPicPr/>
          <p:nvPr/>
        </p:nvPicPr>
        <p:blipFill>
          <a:blip r:embed="rId1"/>
          <a:stretch/>
        </p:blipFill>
        <p:spPr>
          <a:xfrm>
            <a:off x="-7132680" y="-1969920"/>
            <a:ext cx="2341440" cy="1079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:\Users\Crist\Desktop\Danube delta .jpg"/>
          <p:cNvPicPr/>
          <p:nvPr/>
        </p:nvPicPr>
        <p:blipFill>
          <a:blip r:embed="rId2"/>
          <a:stretch/>
        </p:blipFill>
        <p:spPr>
          <a:xfrm>
            <a:off x="1403280" y="1989000"/>
            <a:ext cx="6697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2340000" y="260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nvironmental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395280" y="90792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Water Framework Directive, 2000/60/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Birds Directive, 79/409/EEC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Habitats Directive, 92/43/E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Marine Strategy Framework Directive, 2008/56/EC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Environmental Impact Assessment, EIA 85/337/E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Strategic Environmental Assessment, SEA  2001/42/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EU Biodiversity Strategy – halt the loss of biodiversity by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Ramsar Convention on Wetlands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World Heritage Convention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Convention for the Conservation of European Wildlife and Natural Habitats (Bern Convention, 19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Convention for the Conservation of Migratory Species of Wild Animals (CMS - UNEP, Bonn Convention, 19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Convention on Biological Diversity (CBD, Rio 19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5160"/>
                </a:solidFill>
                <a:latin typeface="Arial"/>
              </a:rPr>
              <a:t>Convention for the Protection of the Danube River, 199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684360" y="54784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ustainable development is a fundamental objectiv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 European Union under the Lisbon Tre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5433840" y="1628640"/>
            <a:ext cx="3025800" cy="21607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1"/>
          <p:cNvSpPr/>
          <p:nvPr/>
        </p:nvSpPr>
        <p:spPr>
          <a:xfrm>
            <a:off x="1619280" y="189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urgeon conservation in the Danube River Bas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3"/>
          <p:cNvSpPr/>
          <p:nvPr/>
        </p:nvSpPr>
        <p:spPr>
          <a:xfrm>
            <a:off x="5008680" y="90792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5160"/>
                </a:solidFill>
                <a:latin typeface="Arial"/>
              </a:rPr>
              <a:t>Target of EUSDR PA 06 &amp; PA 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4" descr="C:\Users\Crist\Desktop\Sturioni 2016\SAP-Title Page.jpg"/>
          <p:cNvPicPr/>
          <p:nvPr/>
        </p:nvPicPr>
        <p:blipFill>
          <a:blip r:embed="rId2"/>
          <a:stretch/>
        </p:blipFill>
        <p:spPr>
          <a:xfrm>
            <a:off x="216000" y="1593720"/>
            <a:ext cx="1654200" cy="234000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0" y="8762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5160"/>
                </a:solidFill>
                <a:latin typeface="Arial"/>
              </a:rPr>
              <a:t>Sturgeon Action Plan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5160"/>
                </a:solidFill>
                <a:latin typeface="Arial"/>
              </a:rPr>
              <a:t>Bern Convention,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3"/>
          <a:stretch/>
        </p:blipFill>
        <p:spPr>
          <a:xfrm>
            <a:off x="262080" y="4292640"/>
            <a:ext cx="1755720" cy="2376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"/>
          <p:cNvPicPr/>
          <p:nvPr/>
        </p:nvPicPr>
        <p:blipFill>
          <a:blip r:embed="rId4"/>
          <a:stretch/>
        </p:blipFill>
        <p:spPr>
          <a:xfrm>
            <a:off x="2351160" y="4292640"/>
            <a:ext cx="1733400" cy="2376360"/>
          </a:xfrm>
          <a:prstGeom prst="rect">
            <a:avLst/>
          </a:prstGeom>
          <a:ln w="0">
            <a:noFill/>
          </a:ln>
        </p:spPr>
      </p:pic>
      <p:sp>
        <p:nvSpPr>
          <p:cNvPr id="436" name="TextBox 2"/>
          <p:cNvSpPr/>
          <p:nvPr/>
        </p:nvSpPr>
        <p:spPr>
          <a:xfrm rot="20552400">
            <a:off x="910800" y="53611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CP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5"/>
          <a:stretch/>
        </p:blipFill>
        <p:spPr>
          <a:xfrm>
            <a:off x="2556000" y="1628640"/>
            <a:ext cx="1498320" cy="20876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2"/>
          <p:cNvSpPr/>
          <p:nvPr/>
        </p:nvSpPr>
        <p:spPr>
          <a:xfrm>
            <a:off x="2340000" y="836640"/>
            <a:ext cx="23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5160"/>
                </a:solidFill>
                <a:latin typeface="Arial"/>
              </a:rPr>
              <a:t>Sturgeon 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5160"/>
                </a:solidFill>
                <a:latin typeface="Arial"/>
              </a:rPr>
              <a:t>EUSDR Flagship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C:\Users\Crist\Desktop\Min declaration.jpg"/>
          <p:cNvPicPr/>
          <p:nvPr/>
        </p:nvPicPr>
        <p:blipFill>
          <a:blip r:embed="rId6"/>
          <a:stretch/>
        </p:blipFill>
        <p:spPr>
          <a:xfrm>
            <a:off x="4600440" y="4149720"/>
            <a:ext cx="4435560" cy="266400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"/>
          <p:cNvSpPr/>
          <p:nvPr/>
        </p:nvSpPr>
        <p:spPr>
          <a:xfrm>
            <a:off x="4932360" y="6464160"/>
            <a:ext cx="419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hoto: Ministerial meeting, ICPDR, 9 Feb.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1"/>
          <p:cNvSpPr/>
          <p:nvPr/>
        </p:nvSpPr>
        <p:spPr>
          <a:xfrm>
            <a:off x="2916360" y="18900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anube River – multiple us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C:\Users\Crist\Desktop\Institut 2016\Poze Sulina\116___08\IMG_3677.JPG"/>
          <p:cNvPicPr/>
          <p:nvPr/>
        </p:nvPicPr>
        <p:blipFill>
          <a:blip r:embed="rId1"/>
          <a:stretch/>
        </p:blipFill>
        <p:spPr>
          <a:xfrm>
            <a:off x="-7132680" y="-5348160"/>
            <a:ext cx="2341440" cy="17557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6443640" y="62064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inking water/ household abstr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C:\Users\Crist\Desktop\drinking water.jpg"/>
          <p:cNvPicPr/>
          <p:nvPr/>
        </p:nvPicPr>
        <p:blipFill>
          <a:blip r:embed="rId2"/>
          <a:stretch/>
        </p:blipFill>
        <p:spPr>
          <a:xfrm>
            <a:off x="6948360" y="1293840"/>
            <a:ext cx="1584360" cy="105552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6948360" y="27306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riculture - irrig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C:\Users\Crist\Desktop\irrigation.jpg"/>
          <p:cNvPicPr/>
          <p:nvPr/>
        </p:nvPicPr>
        <p:blipFill>
          <a:blip r:embed="rId3"/>
          <a:stretch/>
        </p:blipFill>
        <p:spPr>
          <a:xfrm>
            <a:off x="6886440" y="3105000"/>
            <a:ext cx="1924200" cy="1260720"/>
          </a:xfrm>
          <a:prstGeom prst="rect">
            <a:avLst/>
          </a:prstGeom>
          <a:ln w="0">
            <a:noFill/>
          </a:ln>
        </p:spPr>
      </p:pic>
      <p:sp>
        <p:nvSpPr>
          <p:cNvPr id="447" name="TextBox 4"/>
          <p:cNvSpPr/>
          <p:nvPr/>
        </p:nvSpPr>
        <p:spPr>
          <a:xfrm>
            <a:off x="7020000" y="4716360"/>
            <a:ext cx="179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urism – water consump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C:\Users\Crist\Desktop\lux hotels.jpeg"/>
          <p:cNvPicPr/>
          <p:nvPr/>
        </p:nvPicPr>
        <p:blipFill>
          <a:blip r:embed="rId4"/>
          <a:stretch/>
        </p:blipFill>
        <p:spPr>
          <a:xfrm>
            <a:off x="6516720" y="5373720"/>
            <a:ext cx="2468520" cy="1386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539640" y="8366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vi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8" descr="C:\Users\Crist\Desktop\large ships.jpg"/>
          <p:cNvPicPr/>
          <p:nvPr/>
        </p:nvPicPr>
        <p:blipFill>
          <a:blip r:embed="rId5"/>
          <a:stretch/>
        </p:blipFill>
        <p:spPr>
          <a:xfrm>
            <a:off x="423720" y="1197000"/>
            <a:ext cx="2308320" cy="1544760"/>
          </a:xfrm>
          <a:prstGeom prst="rect">
            <a:avLst/>
          </a:prstGeom>
          <a:ln w="0">
            <a:noFill/>
          </a:ln>
        </p:spPr>
      </p:pic>
      <p:sp>
        <p:nvSpPr>
          <p:cNvPr id="451" name="TextBox 6"/>
          <p:cNvSpPr/>
          <p:nvPr/>
        </p:nvSpPr>
        <p:spPr>
          <a:xfrm>
            <a:off x="539640" y="29005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du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9" descr="C:\Users\Crist\Desktop\factory.jpg"/>
          <p:cNvPicPr/>
          <p:nvPr/>
        </p:nvPicPr>
        <p:blipFill>
          <a:blip r:embed="rId6"/>
          <a:stretch/>
        </p:blipFill>
        <p:spPr>
          <a:xfrm>
            <a:off x="-12863520" y="-8558280"/>
            <a:ext cx="6973920" cy="47944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C:\Users\Crist\Desktop\factory.jpg"/>
          <p:cNvPicPr/>
          <p:nvPr/>
        </p:nvPicPr>
        <p:blipFill>
          <a:blip r:embed="rId7"/>
          <a:stretch/>
        </p:blipFill>
        <p:spPr>
          <a:xfrm>
            <a:off x="539640" y="3316320"/>
            <a:ext cx="2192400" cy="1336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C:\Users\Crist\Desktop\Nuclear power plant.jpg"/>
          <p:cNvPicPr/>
          <p:nvPr/>
        </p:nvPicPr>
        <p:blipFill>
          <a:blip r:embed="rId8"/>
          <a:stretch/>
        </p:blipFill>
        <p:spPr>
          <a:xfrm>
            <a:off x="539640" y="5394240"/>
            <a:ext cx="2192400" cy="134784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7"/>
          <p:cNvSpPr/>
          <p:nvPr/>
        </p:nvSpPr>
        <p:spPr>
          <a:xfrm>
            <a:off x="539640" y="49626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uclear power pla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2" descr="C:\Users\Crist\Desktop\Iron gates.jpg"/>
          <p:cNvPicPr/>
          <p:nvPr/>
        </p:nvPicPr>
        <p:blipFill>
          <a:blip r:embed="rId9"/>
          <a:stretch/>
        </p:blipFill>
        <p:spPr>
          <a:xfrm>
            <a:off x="3565440" y="5300640"/>
            <a:ext cx="2374920" cy="1441440"/>
          </a:xfrm>
          <a:prstGeom prst="rect">
            <a:avLst/>
          </a:prstGeom>
          <a:ln w="0">
            <a:noFill/>
          </a:ln>
        </p:spPr>
      </p:pic>
      <p:sp>
        <p:nvSpPr>
          <p:cNvPr id="457" name="TextBox 20"/>
          <p:cNvSpPr/>
          <p:nvPr/>
        </p:nvSpPr>
        <p:spPr>
          <a:xfrm>
            <a:off x="3735360" y="4941720"/>
            <a:ext cx="19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power pl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0" descr="C:\Users\Crist\Desktop\flow chart.jpg"/>
          <p:cNvPicPr/>
          <p:nvPr/>
        </p:nvPicPr>
        <p:blipFill>
          <a:blip r:embed="rId10"/>
          <a:stretch/>
        </p:blipFill>
        <p:spPr>
          <a:xfrm>
            <a:off x="3708360" y="1484280"/>
            <a:ext cx="2187720" cy="3384720"/>
          </a:xfrm>
          <a:prstGeom prst="rect">
            <a:avLst/>
          </a:prstGeom>
          <a:ln w="0">
            <a:noFill/>
          </a:ln>
        </p:spPr>
      </p:pic>
      <p:sp>
        <p:nvSpPr>
          <p:cNvPr id="459" name="Curved Down Arrow 3"/>
          <p:cNvSpPr/>
          <p:nvPr/>
        </p:nvSpPr>
        <p:spPr>
          <a:xfrm rot="20480400">
            <a:off x="4733640" y="1458720"/>
            <a:ext cx="2179440" cy="528480"/>
          </a:xfrm>
          <a:custGeom>
            <a:avLst/>
            <a:gdLst>
              <a:gd name="textAreaLeft" fmla="*/ 495360 w 2179440"/>
              <a:gd name="textAreaRight" fmla="*/ 1618200 w 2179440"/>
              <a:gd name="textAreaTop" fmla="*/ 70560 h 528480"/>
              <a:gd name="textAreaBottom" fmla="*/ 457920 h 528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18" hR="21600" stAng="10800000" swAng="5400000"/>
                <a:lnTo>
                  <a:pt x="11128" y="0"/>
                </a:lnTo>
                <a:arcTo wR="9818" hR="21600" stAng="-5400000" swAng="3624005"/>
                <a:lnTo>
                  <a:pt x="21288" y="16200"/>
                </a:lnTo>
                <a:lnTo>
                  <a:pt x="20290" y="21600"/>
                </a:lnTo>
                <a:lnTo>
                  <a:pt x="18668" y="16200"/>
                </a:lnTo>
                <a:lnTo>
                  <a:pt x="19323" y="16200"/>
                </a:lnTo>
                <a:arcTo wR="9818" hR="21600" stAng="-1775995" swAng="-3519558"/>
                <a:lnTo>
                  <a:pt x="10473" y="48"/>
                </a:lnTo>
                <a:arcTo wR="9818" hR="21600" stAng="-5504447" swAng="-5295553"/>
                <a:close/>
              </a:path>
              <a:path fill="darkenLess" w="21600" h="21600">
                <a:moveTo>
                  <a:pt x="0" y="21600"/>
                </a:moveTo>
                <a:arcTo wR="9818" hR="21600" stAng="10800000" swAng="5400000"/>
                <a:lnTo>
                  <a:pt x="9818" y="0"/>
                </a:lnTo>
                <a:arcTo wR="9818" hR="21600" stAng="-5400000" swAng="104447"/>
                <a:lnTo>
                  <a:pt x="10473" y="48"/>
                </a:lnTo>
                <a:arcTo wR="9818" hR="21600" stAng="-5504447" swAng="-5295553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Curved Down Arrow 24"/>
          <p:cNvSpPr/>
          <p:nvPr/>
        </p:nvSpPr>
        <p:spPr>
          <a:xfrm rot="397200">
            <a:off x="4970160" y="2540160"/>
            <a:ext cx="1878120" cy="566640"/>
          </a:xfrm>
          <a:custGeom>
            <a:avLst/>
            <a:gdLst>
              <a:gd name="textAreaLeft" fmla="*/ 416160 w 1878120"/>
              <a:gd name="textAreaRight" fmla="*/ 1391040 w 1878120"/>
              <a:gd name="textAreaTop" fmla="*/ 75960 h 566640"/>
              <a:gd name="textAreaBottom" fmla="*/ 490680 h 566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78" hR="21600" stAng="10800000" swAng="5400000"/>
                <a:lnTo>
                  <a:pt x="11207" y="0"/>
                </a:lnTo>
                <a:arcTo wR="9578" hR="21600" stAng="-5400000" swAng="3587312"/>
                <a:lnTo>
                  <a:pt x="21296" y="16200"/>
                </a:lnTo>
                <a:lnTo>
                  <a:pt x="19971" y="21600"/>
                </a:lnTo>
                <a:lnTo>
                  <a:pt x="18037" y="16200"/>
                </a:lnTo>
                <a:lnTo>
                  <a:pt x="18852" y="16200"/>
                </a:lnTo>
                <a:arcTo wR="9578" hR="21600" stAng="-1812688" swAng="-3457271"/>
                <a:lnTo>
                  <a:pt x="10393" y="78"/>
                </a:lnTo>
                <a:arcTo wR="9578" hR="21600" stAng="-5530041" swAng="-5269959"/>
                <a:close/>
              </a:path>
              <a:path fill="darkenLess" w="21600" h="21600">
                <a:moveTo>
                  <a:pt x="0" y="21600"/>
                </a:moveTo>
                <a:arcTo wR="9578" hR="21600" stAng="10800000" swAng="5400000"/>
                <a:lnTo>
                  <a:pt x="9578" y="0"/>
                </a:lnTo>
                <a:arcTo wR="9578" hR="21600" stAng="-5400000" swAng="130041"/>
                <a:lnTo>
                  <a:pt x="10393" y="78"/>
                </a:lnTo>
                <a:arcTo wR="9578" hR="21600" stAng="-5530041" swAng="-5269959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Curved Down Arrow 25"/>
          <p:cNvSpPr/>
          <p:nvPr/>
        </p:nvSpPr>
        <p:spPr>
          <a:xfrm rot="1708800">
            <a:off x="4987800" y="3699000"/>
            <a:ext cx="1866960" cy="530280"/>
          </a:xfrm>
          <a:custGeom>
            <a:avLst/>
            <a:gdLst>
              <a:gd name="textAreaLeft" fmla="*/ 416880 w 1866960"/>
              <a:gd name="textAreaRight" fmla="*/ 1383840 w 1866960"/>
              <a:gd name="textAreaTop" fmla="*/ 70920 h 530280"/>
              <a:gd name="textAreaBottom" fmla="*/ 459360 h 530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50" hR="21600" stAng="10800000" swAng="5400000"/>
                <a:lnTo>
                  <a:pt x="11183" y="0"/>
                </a:lnTo>
                <a:arcTo wR="9650" hR="21600" stAng="-5400000" swAng="3598487"/>
                <a:lnTo>
                  <a:pt x="21294" y="16200"/>
                </a:lnTo>
                <a:lnTo>
                  <a:pt x="20067" y="21600"/>
                </a:lnTo>
                <a:lnTo>
                  <a:pt x="18227" y="16200"/>
                </a:lnTo>
                <a:lnTo>
                  <a:pt x="18994" y="16200"/>
                </a:lnTo>
                <a:arcTo wR="9650" hR="21600" stAng="-1801513" swAng="-3476159"/>
                <a:lnTo>
                  <a:pt x="10417" y="68"/>
                </a:lnTo>
                <a:arcTo wR="9650" hR="21600" stAng="-5522327" swAng="-5277673"/>
                <a:close/>
              </a:path>
              <a:path fill="darkenLess" w="21600" h="21600">
                <a:moveTo>
                  <a:pt x="0" y="21600"/>
                </a:moveTo>
                <a:arcTo wR="9650" hR="21600" stAng="10800000" swAng="5400000"/>
                <a:lnTo>
                  <a:pt x="9650" y="0"/>
                </a:lnTo>
                <a:arcTo wR="9650" hR="21600" stAng="-5400000" swAng="122327"/>
                <a:lnTo>
                  <a:pt x="10417" y="68"/>
                </a:lnTo>
                <a:arcTo wR="9650" hR="21600" stAng="-5522327" swAng="-5277673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Curved Right Arrow 4"/>
          <p:cNvSpPr/>
          <p:nvPr/>
        </p:nvSpPr>
        <p:spPr>
          <a:xfrm rot="6638400">
            <a:off x="3363480" y="676080"/>
            <a:ext cx="646200" cy="2385720"/>
          </a:xfrm>
          <a:custGeom>
            <a:avLst/>
            <a:gdLst>
              <a:gd name="textAreaLeft" fmla="*/ 86400 w 646200"/>
              <a:gd name="textAreaRight" fmla="*/ 559800 w 646200"/>
              <a:gd name="textAreaTop" fmla="*/ 535680 h 2385720"/>
              <a:gd name="textAreaBottom" fmla="*/ 1769040 h 238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03" stAng="-5400000" swAng="-5400000"/>
                <a:lnTo>
                  <a:pt x="0" y="11166"/>
                </a:lnTo>
                <a:arcTo wR="21600" hR="9703" stAng="10800000" swAng="-3606633"/>
                <a:lnTo>
                  <a:pt x="16200" y="21292"/>
                </a:lnTo>
                <a:lnTo>
                  <a:pt x="21600" y="20138"/>
                </a:lnTo>
                <a:lnTo>
                  <a:pt x="16200" y="18367"/>
                </a:lnTo>
                <a:lnTo>
                  <a:pt x="16200" y="19098"/>
                </a:lnTo>
                <a:arcTo wR="21600" hR="9703" stAng="7193367" swAng="3489924"/>
                <a:lnTo>
                  <a:pt x="61" y="10434"/>
                </a:lnTo>
                <a:arcTo wR="21600" hR="9703" stAng="-10683291" swAng="5283291"/>
                <a:close/>
              </a:path>
              <a:path fill="darkenLess" w="21600" h="21600">
                <a:moveTo>
                  <a:pt x="21600" y="0"/>
                </a:moveTo>
                <a:arcTo wR="21600" hR="9703" stAng="-5400000" swAng="-5400000"/>
                <a:lnTo>
                  <a:pt x="0" y="9703"/>
                </a:lnTo>
                <a:arcTo wR="21600" hR="9703" stAng="10800000" swAng="-116709"/>
                <a:lnTo>
                  <a:pt x="61" y="10434"/>
                </a:lnTo>
                <a:arcTo wR="21600" hR="9703" stAng="-10683291" swAng="5283291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Curved Right Arrow 28"/>
          <p:cNvSpPr/>
          <p:nvPr/>
        </p:nvSpPr>
        <p:spPr>
          <a:xfrm rot="5682600">
            <a:off x="3350160" y="1923120"/>
            <a:ext cx="647640" cy="2122560"/>
          </a:xfrm>
          <a:custGeom>
            <a:avLst/>
            <a:gdLst>
              <a:gd name="textAreaLeft" fmla="*/ 86760 w 647640"/>
              <a:gd name="textAreaRight" fmla="*/ 560880 w 647640"/>
              <a:gd name="textAreaTop" fmla="*/ 469800 h 2122560"/>
              <a:gd name="textAreaBottom" fmla="*/ 1571760 h 212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64" stAng="-5400000" swAng="-5400000"/>
                <a:lnTo>
                  <a:pt x="0" y="11212"/>
                </a:lnTo>
                <a:arcTo wR="21600" hR="9564" stAng="10800000" swAng="-3585124"/>
                <a:lnTo>
                  <a:pt x="16200" y="21296"/>
                </a:lnTo>
                <a:lnTo>
                  <a:pt x="21600" y="19952"/>
                </a:lnTo>
                <a:lnTo>
                  <a:pt x="16200" y="18000"/>
                </a:lnTo>
                <a:lnTo>
                  <a:pt x="16200" y="18824"/>
                </a:lnTo>
                <a:arcTo wR="21600" hR="9564" stAng="7214876" swAng="3453556"/>
                <a:lnTo>
                  <a:pt x="80" y="10388"/>
                </a:lnTo>
                <a:arcTo wR="21600" hR="9564" stAng="-10668431" swAng="5268431"/>
                <a:close/>
              </a:path>
              <a:path fill="darkenLess" w="21600" h="21600">
                <a:moveTo>
                  <a:pt x="21600" y="0"/>
                </a:moveTo>
                <a:arcTo wR="21600" hR="9564" stAng="-5400000" swAng="-5400000"/>
                <a:lnTo>
                  <a:pt x="0" y="9564"/>
                </a:lnTo>
                <a:arcTo wR="21600" hR="9564" stAng="10800000" swAng="-131569"/>
                <a:lnTo>
                  <a:pt x="80" y="10388"/>
                </a:lnTo>
                <a:arcTo wR="21600" hR="9564" stAng="-10668431" swAng="5268431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Curved Right Arrow 30"/>
          <p:cNvSpPr/>
          <p:nvPr/>
        </p:nvSpPr>
        <p:spPr>
          <a:xfrm rot="3521400">
            <a:off x="3266280" y="3294720"/>
            <a:ext cx="649080" cy="2419200"/>
          </a:xfrm>
          <a:custGeom>
            <a:avLst/>
            <a:gdLst>
              <a:gd name="textAreaLeft" fmla="*/ 86760 w 649080"/>
              <a:gd name="textAreaRight" fmla="*/ 562320 w 649080"/>
              <a:gd name="textAreaTop" fmla="*/ 543960 h 2419200"/>
              <a:gd name="textAreaBottom" fmla="*/ 1794240 h 24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13" stAng="-5400000" swAng="-5400000"/>
                <a:lnTo>
                  <a:pt x="0" y="11163"/>
                </a:lnTo>
                <a:arcTo wR="21600" hR="9713" stAng="10800000" swAng="-3608162"/>
                <a:lnTo>
                  <a:pt x="16200" y="21292"/>
                </a:lnTo>
                <a:lnTo>
                  <a:pt x="21600" y="20151"/>
                </a:lnTo>
                <a:lnTo>
                  <a:pt x="16200" y="18394"/>
                </a:lnTo>
                <a:lnTo>
                  <a:pt x="16200" y="19118"/>
                </a:lnTo>
                <a:arcTo wR="21600" hR="9713" stAng="7191838" swAng="3492496"/>
                <a:lnTo>
                  <a:pt x="60" y="10438"/>
                </a:lnTo>
                <a:arcTo wR="21600" hR="9713" stAng="-10684334" swAng="5284334"/>
                <a:close/>
              </a:path>
              <a:path fill="darkenLess" w="21600" h="21600">
                <a:moveTo>
                  <a:pt x="21600" y="0"/>
                </a:moveTo>
                <a:arcTo wR="21600" hR="9713" stAng="-5400000" swAng="-5400000"/>
                <a:lnTo>
                  <a:pt x="0" y="9713"/>
                </a:lnTo>
                <a:arcTo wR="21600" hR="9713" stAng="10800000" swAng="-115666"/>
                <a:lnTo>
                  <a:pt x="60" y="10438"/>
                </a:lnTo>
                <a:arcTo wR="21600" hR="9713" stAng="-10684334" swAng="5284334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urved Down Arrow 31"/>
          <p:cNvSpPr/>
          <p:nvPr/>
        </p:nvSpPr>
        <p:spPr>
          <a:xfrm rot="3208800">
            <a:off x="4766040" y="4363200"/>
            <a:ext cx="1577880" cy="531720"/>
          </a:xfrm>
          <a:custGeom>
            <a:avLst/>
            <a:gdLst>
              <a:gd name="textAreaLeft" fmla="*/ 344520 w 1577880"/>
              <a:gd name="textAreaRight" fmla="*/ 1166760 w 1577880"/>
              <a:gd name="textAreaTop" fmla="*/ 71280 h 531720"/>
              <a:gd name="textAreaBottom" fmla="*/ 460440 h 531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35" hR="21600" stAng="10800000" swAng="5400000"/>
                <a:lnTo>
                  <a:pt x="11255" y="0"/>
                </a:lnTo>
                <a:arcTo wR="9435" hR="21600" stAng="-5400000" swAng="3564742"/>
                <a:lnTo>
                  <a:pt x="21300" y="16200"/>
                </a:lnTo>
                <a:lnTo>
                  <a:pt x="19780" y="21600"/>
                </a:lnTo>
                <a:lnTo>
                  <a:pt x="17660" y="16200"/>
                </a:lnTo>
                <a:lnTo>
                  <a:pt x="18570" y="16200"/>
                </a:lnTo>
                <a:arcTo wR="9435" hR="21600" stAng="-1835258" swAng="-3419319"/>
                <a:lnTo>
                  <a:pt x="10345" y="101"/>
                </a:lnTo>
                <a:arcTo wR="9435" hR="21600" stAng="-5545423" swAng="-5254577"/>
                <a:close/>
              </a:path>
              <a:path fill="darkenLess" w="21600" h="21600">
                <a:moveTo>
                  <a:pt x="0" y="21600"/>
                </a:moveTo>
                <a:arcTo wR="9435" hR="21600" stAng="10800000" swAng="5400000"/>
                <a:lnTo>
                  <a:pt x="9435" y="0"/>
                </a:lnTo>
                <a:arcTo wR="9435" hR="21600" stAng="-5400000" swAng="145423"/>
                <a:lnTo>
                  <a:pt x="10345" y="101"/>
                </a:lnTo>
                <a:arcTo wR="9435" hR="21600" stAng="-5545423" swAng="-5254577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108000" y="1800360"/>
            <a:ext cx="6804000" cy="4508280"/>
          </a:xfrm>
          <a:prstGeom prst="rect">
            <a:avLst/>
          </a:prstGeom>
          <a:ln w="0">
            <a:noFill/>
          </a:ln>
        </p:spPr>
      </p:pic>
      <p:sp>
        <p:nvSpPr>
          <p:cNvPr id="467" name="TextBox 2"/>
          <p:cNvSpPr/>
          <p:nvPr/>
        </p:nvSpPr>
        <p:spPr>
          <a:xfrm>
            <a:off x="826920" y="2225520"/>
            <a:ext cx="66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5160"/>
                </a:solidFill>
                <a:latin typeface="Arial"/>
              </a:rPr>
              <a:t>International Union for the Conservation of Na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2"/>
          <a:stretch/>
        </p:blipFill>
        <p:spPr>
          <a:xfrm>
            <a:off x="6372360" y="2133720"/>
            <a:ext cx="2560680" cy="3816360"/>
          </a:xfrm>
          <a:prstGeom prst="rect">
            <a:avLst/>
          </a:prstGeom>
          <a:ln w="0">
            <a:noFill/>
          </a:ln>
        </p:spPr>
      </p:pic>
      <p:sp>
        <p:nvSpPr>
          <p:cNvPr id="469" name="TextBox 3"/>
          <p:cNvSpPr/>
          <p:nvPr/>
        </p:nvSpPr>
        <p:spPr>
          <a:xfrm>
            <a:off x="1187280" y="25236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anube River Ba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Home of critically endangered species and habi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(Natura2000 networ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4208400" y="1125360"/>
            <a:ext cx="4467240" cy="2735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"/>
          <p:cNvPicPr/>
          <p:nvPr/>
        </p:nvPicPr>
        <p:blipFill>
          <a:blip r:embed="rId2"/>
          <a:stretch/>
        </p:blipFill>
        <p:spPr>
          <a:xfrm>
            <a:off x="555480" y="1341360"/>
            <a:ext cx="3295800" cy="2327400"/>
          </a:xfrm>
          <a:prstGeom prst="rect">
            <a:avLst/>
          </a:prstGeom>
          <a:ln w="0">
            <a:noFill/>
          </a:ln>
        </p:spPr>
      </p:pic>
      <p:sp>
        <p:nvSpPr>
          <p:cNvPr id="472" name="TextBox 1"/>
          <p:cNvSpPr/>
          <p:nvPr/>
        </p:nvSpPr>
        <p:spPr>
          <a:xfrm>
            <a:off x="1403280" y="1159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lim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 challenge uniting all Danube stakehold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"/>
          <p:cNvSpPr/>
          <p:nvPr/>
        </p:nvSpPr>
        <p:spPr>
          <a:xfrm>
            <a:off x="503280" y="4051440"/>
            <a:ext cx="86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rought and water scarcity – likely to become more intense and more 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rought risk – expected to increase - leading to water use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outhern part of HU and RO, RS, BG and Danube Delta – likely to face severe droughts and water short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2627280" y="25092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ustainable navi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"/>
          <p:cNvSpPr/>
          <p:nvPr/>
        </p:nvSpPr>
        <p:spPr>
          <a:xfrm>
            <a:off x="250920" y="76500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165160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5160"/>
                </a:solidFill>
                <a:latin typeface="Arial"/>
                <a:ea typeface="Arial"/>
              </a:rPr>
              <a:t>Full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akes into consideration climate change </a:t>
            </a:r>
            <a:r>
              <a:rPr b="0" lang="en-US" sz="2000" spc="-1" strike="noStrike">
                <a:solidFill>
                  <a:srgbClr val="165160"/>
                </a:solidFill>
                <a:latin typeface="Arial"/>
                <a:ea typeface="Arial"/>
              </a:rPr>
              <a:t>models, environmenta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legislation</a:t>
            </a:r>
            <a:r>
              <a:rPr b="0" lang="en-US" sz="2000" spc="-1" strike="noStrike">
                <a:solidFill>
                  <a:srgbClr val="165160"/>
                </a:solidFill>
                <a:latin typeface="Arial"/>
                <a:ea typeface="Arial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eeds of protected areas/spe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65160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5160"/>
                </a:solidFill>
                <a:latin typeface="Arial"/>
                <a:ea typeface="Arial"/>
              </a:rPr>
              <a:t>Bette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quality</a:t>
            </a:r>
            <a:r>
              <a:rPr b="0" lang="en-US" sz="2000" spc="-1" strike="noStrike">
                <a:solidFill>
                  <a:srgbClr val="165160"/>
                </a:solidFill>
                <a:latin typeface="Arial"/>
                <a:ea typeface="Arial"/>
              </a:rPr>
              <a:t> of EIA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65160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5160"/>
                </a:solidFill>
                <a:latin typeface="Arial"/>
                <a:ea typeface="Arial"/>
              </a:rPr>
              <a:t>Involv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ll</a:t>
            </a:r>
            <a:r>
              <a:rPr b="0" lang="en-US" sz="2000" spc="-1" strike="noStrike">
                <a:solidFill>
                  <a:srgbClr val="165160"/>
                </a:solidFill>
                <a:latin typeface="Arial"/>
                <a:ea typeface="Arial"/>
              </a:rPr>
              <a:t> stakeholders since early planning ph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65160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5160"/>
                </a:solidFill>
                <a:latin typeface="Arial"/>
                <a:ea typeface="Arial"/>
              </a:rPr>
              <a:t>Modelling used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elect solutions before starting the co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65160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5160"/>
                </a:solidFill>
                <a:latin typeface="Arial"/>
                <a:ea typeface="Arial"/>
              </a:rPr>
              <a:t>Constructions launched only based on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joint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C:\Users\Crist\Desktop\Vortices_01.jpg"/>
          <p:cNvPicPr/>
          <p:nvPr/>
        </p:nvPicPr>
        <p:blipFill>
          <a:blip r:embed="rId1"/>
          <a:stretch/>
        </p:blipFill>
        <p:spPr>
          <a:xfrm>
            <a:off x="3995640" y="3627360"/>
            <a:ext cx="5148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1"/>
          <p:cNvSpPr/>
          <p:nvPr/>
        </p:nvSpPr>
        <p:spPr>
          <a:xfrm>
            <a:off x="3995640" y="2330280"/>
            <a:ext cx="51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hank you for your at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Users\Crist\Desktop\Acad\Alcedo-Atthis-hd-Wallpapers.jpg"/>
          <p:cNvPicPr/>
          <p:nvPr/>
        </p:nvPicPr>
        <p:blipFill>
          <a:blip r:embed="rId1"/>
          <a:stretch/>
        </p:blipFill>
        <p:spPr>
          <a:xfrm>
            <a:off x="5796000" y="3330720"/>
            <a:ext cx="2455920" cy="1655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8" descr="C:\Users\Crist\Desktop\Institut 2016\Poze Sulina\116___08\willows.JPG"/>
          <p:cNvPicPr/>
          <p:nvPr/>
        </p:nvPicPr>
        <p:blipFill>
          <a:blip r:embed="rId2"/>
          <a:stretch/>
        </p:blipFill>
        <p:spPr>
          <a:xfrm>
            <a:off x="-36360" y="2330280"/>
            <a:ext cx="3949560" cy="2961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C:\Users\Crist\Desktop\yoy.jpg"/>
          <p:cNvPicPr/>
          <p:nvPr/>
        </p:nvPicPr>
        <p:blipFill>
          <a:blip r:embed="rId3"/>
          <a:stretch/>
        </p:blipFill>
        <p:spPr>
          <a:xfrm>
            <a:off x="3516480" y="5311800"/>
            <a:ext cx="5627520" cy="1573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C:\Users\Crist\Desktop\Egrets.jpg"/>
          <p:cNvPicPr/>
          <p:nvPr/>
        </p:nvPicPr>
        <p:blipFill>
          <a:blip r:embed="rId4"/>
          <a:stretch/>
        </p:blipFill>
        <p:spPr>
          <a:xfrm>
            <a:off x="3876840" y="0"/>
            <a:ext cx="5289480" cy="20178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2" descr="C:\Users\Crist\Desktop\Water lilies.jpg"/>
          <p:cNvPicPr/>
          <p:nvPr/>
        </p:nvPicPr>
        <p:blipFill>
          <a:blip r:embed="rId5"/>
          <a:stretch/>
        </p:blipFill>
        <p:spPr>
          <a:xfrm>
            <a:off x="-3240" y="-27000"/>
            <a:ext cx="21272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02:34:58Z</dcterms:created>
  <dc:creator>adrian</dc:creator>
  <dc:description/>
  <dc:language>en-US</dc:language>
  <cp:lastModifiedBy>Cristina Sandu</cp:lastModifiedBy>
  <dcterms:modified xsi:type="dcterms:W3CDTF">2016-09-16T06:28:56Z</dcterms:modified>
  <cp:revision>477</cp:revision>
  <dc:subject/>
  <dc:title>„Sturgeon 2020”   - a strategy for sturgeon revival in the Danube River Basin and their sustainable exploitation</dc:title>
</cp:coreProperties>
</file>