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2FC-872E-4E86-836C-78BB93FB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832-3B92-4ADB-9A15-C3066BBB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79E-DC1F-4882-9A14-400A5B72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83F-0DE0-4271-B753-0B79C2A6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9595-1D7F-4C02-A96D-8BD120C3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2656-5BFE-4861-B92E-9349330D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C1D8-5A0B-4662-8D3B-BC107949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2D5B-C2A8-41D4-BA52-D9ABAA4B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DC7F-244A-4D92-8D66-9A34F7B6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451D-0007-479E-9A7D-28706273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C102-D2F0-4975-ADEF-68F5185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D49-0CF3-4D04-8350-509E0409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1E79-67ED-4C7D-86CC-11F6D3B3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B351-00D3-4837-B7B8-31CD6DDE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CEAE-68F9-491F-B567-4A296D0C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0A05-F6E3-4431-B40D-4C7C3DD6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2F72-D8EE-4695-BDF8-2576AAD3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2CA-98CE-4ACE-90D2-365DE0F0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101-8BBB-4EDD-B5C2-77A32E5C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DDA-8E6D-4F73-BCBE-0F7D81B5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D4D-6DB6-45A6-A2BA-06FFEF49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2C4-6CDF-4091-AFFC-0AC5B6CE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90A-C7D2-49E4-B52B-2E30150E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2D2-CD9C-410E-B1CC-54889E2A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BEAA-4206-4F8D-BFE7-1AD8C396383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377F-70E8-4A8D-9B97-F7448CAD03F5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fdj.ro/rmd_ro.html" TargetMode="External"/><Relationship Id="rId2" Type="http://schemas.openxmlformats.org/officeDocument/2006/relationships/hyperlink" Target="http://www.incdpm.ro/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proeurope.egis.fr/water/ROU/BALA/C__Collaborative_Zone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2f5897"/>
                </a:solidFill>
                <a:latin typeface="Palatino Linotype"/>
              </a:rPr>
              <a:t>Satus of the projects for the improvment of the conditions for navigation in Romania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2f5897"/>
                </a:solidFill>
                <a:latin typeface="Palatino Linotype"/>
              </a:rPr>
              <a:t>7</a:t>
            </a:r>
            <a:r>
              <a:rPr b="1" lang="en-US" sz="1800" spc="-1" strike="noStrike" baseline="30000">
                <a:solidFill>
                  <a:srgbClr val="2f5897"/>
                </a:solidFill>
                <a:latin typeface="Palatino Linotype"/>
              </a:rPr>
              <a:t>th</a:t>
            </a:r>
            <a:r>
              <a:rPr b="1" lang="en-US" sz="1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en-GB" sz="1800" spc="-1" strike="noStrike">
                <a:solidFill>
                  <a:srgbClr val="2f5897"/>
                </a:solidFill>
                <a:latin typeface="Palatino Linotype"/>
              </a:rPr>
              <a:t>Workshop on the Follow-up of the</a:t>
            </a:r>
            <a:br>
              <a:rPr sz="1800"/>
            </a:br>
            <a:r>
              <a:rPr b="1" i="1" lang="en-GB" sz="1800" spc="-1" strike="noStrike">
                <a:solidFill>
                  <a:srgbClr val="2f5897"/>
                </a:solidFill>
                <a:latin typeface="Palatino Linotype"/>
              </a:rPr>
              <a:t>Joint Statement on Guiding Principles on the Development of Inland</a:t>
            </a:r>
            <a:r>
              <a:rPr b="0" i="1" lang="en-GB" sz="1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i="1" lang="en-GB" sz="1800" spc="-1" strike="noStrike">
                <a:solidFill>
                  <a:srgbClr val="2f5897"/>
                </a:solidFill>
                <a:latin typeface="Palatino Linotype"/>
              </a:rPr>
              <a:t>Navigation and Environmental Protection in the Danube River Basin</a:t>
            </a:r>
            <a:br>
              <a:rPr sz="1800"/>
            </a:br>
            <a:endParaRPr b="0" lang="en-US" sz="1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73228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Budapest, 15 – 16 September 2016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1" name="Object 24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3887640" cy="50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O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rganisational structure 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INEA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supports the EC in the management of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EF projects. The INEA Project Officer reports every decision from EC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and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monitors the project progress and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pproves all the reports delivered by the project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c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onsortium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Advisory Council (AC)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onsists of the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Project Management Team (PMT) and non-project related stakeholders of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 inland navigation sector in the Danube corridor.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AC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will meet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twice per year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during the project and will be chaired by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 Project Manager. The Advisory Council will not make formal decision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on the project, but will collect and reflect inputs and trends relevant for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 implementation of the project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9" name="Object 8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4616640" cy="50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3887640" cy="50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O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rganisational structure 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Steering Committee  (SC)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takes the m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jor management decision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. SC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is made up of members of the Project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Management Team (PMT) and representatives of key institutions playing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 role in the implementations of Fast DANUBE project: Romanian Ministry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of Transport, Bulgarian Ministry of Transport, Romanian Ministry of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Environment, Water and Forest, Bulgarian Ministry of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E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nvironment and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Waters, Harbour administrations from Romania (Romanian Danube River</a:t>
            </a:r>
            <a:br>
              <a:rPr sz="1600"/>
            </a:br>
            <a:r>
              <a:rPr b="0" lang="fr-FR" sz="1600" spc="-1" strike="noStrike">
                <a:solidFill>
                  <a:srgbClr val="2f5897"/>
                </a:solidFill>
                <a:latin typeface="Palatino Linotype"/>
              </a:rPr>
              <a:t>Port Administration), Republic of Bulgaria (Bulgarian Port Infrastructure),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Romanian Ministry of European Funds.</a:t>
            </a: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2" name="Object 7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4616640" cy="50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3887640" cy="50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O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rganisational structure 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Stakeholer Forum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– 5 meetings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/project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During the EIA procedure are foreseen ten session of public consultations and fiv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Stakeholders FORUM. Public consultations will be conducted in accordance with Romanian and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Bulgarian legislation as well as Convention on Environmental Impact Assessment in a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ransboundary Context done at Espoo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.</a:t>
            </a: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Object 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4616640" cy="50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4248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Thematic Working Group for the implementation and monitoring of the projects related to the improvment of the navigation conditions on the Danube</a:t>
            </a:r>
            <a:br>
              <a:rPr sz="1600"/>
            </a:b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First meeting: 23.08.2016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Next meeting: 20.09.2016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Member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: 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Ministry of European Funds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Ministry of Transport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Ministry of Environment, Waters and Forests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National Agency for Environment Protection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River Administration of the Lower Danube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Navigable Canal Administration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Romanian Shipowners and Port Operators Association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Romanian Academy – Biologic Institute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WWF – Danube – Carphatians Programme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Romanian Trade and Industry Chamber 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Institute for Public Policies</a:t>
            </a:r>
            <a:br>
              <a:rPr sz="1600"/>
            </a:b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8" name="Object 6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788000" y="438120"/>
            <a:ext cx="405756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420640"/>
            <a:ext cx="7127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Thank you for your attention !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Ministry of Transport of Romania</a:t>
            </a:r>
            <a:br>
              <a:rPr sz="1600"/>
            </a:b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Naval Transport Directorate</a:t>
            </a:r>
            <a:br>
              <a:rPr sz="1600"/>
            </a:b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tel. 0040 21 319 62 03</a:t>
            </a:r>
            <a:br>
              <a:rPr sz="1600"/>
            </a:b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fax 0040 750 032 441</a:t>
            </a: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2f5897"/>
                </a:solidFill>
                <a:latin typeface="Palatino Linotype"/>
              </a:rPr>
              <a:t>Improvement of the conditions of navigation on the Danube on the sector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o-RO" sz="1800" spc="-1" strike="noStrike">
                <a:solidFill>
                  <a:srgbClr val="2f5897"/>
                </a:solidFill>
                <a:latin typeface="Palatino Linotype"/>
              </a:rPr>
              <a:t>km 375 – km 175, Calarasi – Brail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o-RO" sz="1800" spc="-1" strike="noStrike">
                <a:solidFill>
                  <a:srgbClr val="2f5897"/>
                </a:solidFill>
                <a:latin typeface="Palatino Linotype"/>
              </a:rPr>
              <a:t>km 845.5 – Km 375, Romanian – Bulgarian common sector</a:t>
            </a:r>
            <a:endParaRPr b="0" lang="en-US" sz="1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3" name="Object 1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IMPROVEMENT OF THE NAVIGATION CONDITIONS ON THE DANUBE BETWEEN C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Ă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L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Ă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RA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Ș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I AND BR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Ă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ILA, KM 375 –KM 175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ontract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for works was signed on April 2009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with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onsortium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formed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by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INTERCONSTRUCT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Ltd.,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ANAL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SERVIC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Ltd.,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S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UPERQUATRO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GRUP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Ltd.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 a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nd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G&amp;G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Ltd.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ontract Price: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38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,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671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,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752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.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12 Euro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(85% CF and 15% state budget)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Implementation period: 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August 2011 – December 2016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ENVIRONMENTAL MONITORING CONTRACT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The contract was signed in March 2011 with the Consortium formed by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INCDPM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(Romania), SC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QUAPROIECT SA (Rom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a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nia),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VITUKI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(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Ungaria), BOKU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(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ustria)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and </a:t>
            </a:r>
            <a:r>
              <a:rPr b="0" lang="vi-VN" sz="1600" spc="-1" strike="noStrike">
                <a:solidFill>
                  <a:srgbClr val="2f5897"/>
                </a:solidFill>
                <a:latin typeface="Times New Roman"/>
              </a:rPr>
              <a:t>DMG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(</a:t>
            </a:r>
            <a:r>
              <a:rPr b="0" lang="vi-VN" sz="1600" spc="-1" strike="noStrike">
                <a:solidFill>
                  <a:srgbClr val="2f5897"/>
                </a:solidFill>
                <a:latin typeface="Times New Roman"/>
              </a:rPr>
              <a:t>România)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Contract Price: 8,140,706 Euro (85%ERDF and 15 % state budget SOPT 2007 – 2013 and Large Infrastructure Operational Programe 2014 - 2020)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Implementation period: 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April 2011- April 2017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FEASIBILITY STUDY FOR ALTERNATIVE SOLUTION ON BALA BRANCH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ontract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wa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signed in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February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2015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with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onsortium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EGI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EAU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France,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EGI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Romania,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ompagni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National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du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Rhone.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ontract Price: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794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,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786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.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81 Euro</a:t>
            </a: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Implementation period: F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ebruary 2015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– December 2016</a:t>
            </a:r>
            <a:br>
              <a:rPr sz="1600"/>
            </a:b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5" name="Object 2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10 critical points identified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3 were considered first priority to be executed in phase I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PC 01 –Bala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Branch area and Caragheorghe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sand 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–banks protection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–guiding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dyke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–bottom sill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–dredging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PC 02 –Epuraşu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Island Area 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–banks protection 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–submersible guiding dyk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PC 10 –Caleia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Branch (Ostrovul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Lupu)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–banks protection on the left bank of the Danube, on the right arm of the Caleia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Branch and on the left side of the Caleia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Branch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–bottom sill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–dredging</a:t>
            </a:r>
            <a:br>
              <a:rPr sz="1600"/>
            </a:b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7" name="Object 20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Current situation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FDJ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ha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stopped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execution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of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bottom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sill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t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50%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lower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level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formed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only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from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sand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bag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or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of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originally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designed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bottom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sill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secured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with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rock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rmour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l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yer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nd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i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not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wall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but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i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rapezoidal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structur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with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very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gentl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slopes.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final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level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will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be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“0”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m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Black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Sea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Constant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e works in Bala have been completed 100% and taken over in April 2016.</a:t>
            </a:r>
            <a:br>
              <a:rPr sz="1600"/>
            </a:br>
            <a:br>
              <a:rPr sz="1600"/>
            </a:b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2 solution</a:t>
            </a: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are</a:t>
            </a: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 currently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under </a:t>
            </a: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3D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mathematical modelling </a:t>
            </a: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process. </a:t>
            </a: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the 3D modelling Report in 2 weeks. Description of solution 9 will be sent to the stakeholders and discussed during the meeting of the Working Group -Danube organised by the Ministry of European Funds on 20th September 2016. </a:t>
            </a:r>
            <a:br>
              <a:rPr sz="1600"/>
            </a:b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9" name="Object 19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Transparency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</a:t>
            </a: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ll the mo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nitoring team reports, drafts and final versions are posted on the AFDJ website  the </a:t>
            </a:r>
            <a:r>
              <a:rPr b="0" lang="en-GB" sz="1600" spc="-1" strike="noStrike" u="sng">
                <a:solidFill>
                  <a:srgbClr val="3399ff"/>
                </a:solidFill>
                <a:uFillTx/>
                <a:latin typeface="Palatino Linotype"/>
                <a:hlinkClick r:id="rId1"/>
              </a:rPr>
              <a:t>http://www.afdj.ro/rmd_ro.html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Other relevant information on the INCDPM website </a:t>
            </a:r>
            <a:r>
              <a:rPr b="0" lang="en-US" sz="1600" spc="-1" strike="noStrike" u="sng">
                <a:solidFill>
                  <a:srgbClr val="3399ff"/>
                </a:solidFill>
                <a:uFillTx/>
                <a:latin typeface="Palatino Linotype"/>
                <a:hlinkClick r:id="rId2"/>
              </a:rPr>
              <a:t>www.incdpm.ro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6 workshops with Romanian authorities, European Commission, ICPDR,  stakeholder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June 2012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February 2013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July 2013 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October 2013 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May 2015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October 2015</a:t>
            </a: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After AFDJ will receive the 3D modelling Report, another  workshop will be organised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1" name="Object 17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Transparency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Since the last workshop in October 2015, EGIS team created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an online platform where t</a:t>
            </a: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he following items have been uploaded for your information :</a:t>
            </a: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Alternative solutions report –draft – January 2016</a:t>
            </a: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Measurements data</a:t>
            </a: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Consultant (EGIS – CNR) measurements data</a:t>
            </a: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Measurements report</a:t>
            </a: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BOKU Raw data</a:t>
            </a: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DELTARES Raw data</a:t>
            </a: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This platform is still functional and can be accessed through the following URL is : </a:t>
            </a:r>
            <a:r>
              <a:rPr b="0" lang="en-GB" sz="1600" spc="-1" strike="noStrike" u="sng">
                <a:solidFill>
                  <a:srgbClr val="3399ff"/>
                </a:solidFill>
                <a:uFillTx/>
                <a:latin typeface="Palatino Linotype"/>
                <a:hlinkClick r:id="rId1"/>
              </a:rPr>
              <a:t>https://proeurope.egis.fr/water/ROU/BALA/C__Collaborative_Zone</a:t>
            </a:r>
            <a:r>
              <a:rPr b="0" lang="en-GB" sz="1600" spc="-1" strike="noStrike">
                <a:solidFill>
                  <a:srgbClr val="ff0000"/>
                </a:solidFill>
                <a:latin typeface="Palatino Linotype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LOGIN : egis\c.cuc</a:t>
            </a: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PASSWORD : Mpa62S7W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On this folder, the various stakeholders will be able to download or upload content, or review and comment documents online.</a:t>
            </a: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This folder has to be considered as a collaborative tool, that allow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EGIS team to work more efficiently on the Bala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branch project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3" name="Object 17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5897"/>
                </a:solidFill>
                <a:latin typeface="Cambria"/>
                <a:ea typeface="Times New Roman"/>
              </a:rPr>
              <a:t>FAST DANUBE   </a:t>
            </a:r>
            <a:r>
              <a:rPr b="1" lang="ro-RO" sz="1600" spc="-1" strike="noStrike">
                <a:solidFill>
                  <a:srgbClr val="2f5897"/>
                </a:solidFill>
                <a:latin typeface="Cambria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2f5897"/>
                </a:solidFill>
                <a:latin typeface="Cambria"/>
                <a:ea typeface="Times New Roman"/>
              </a:rPr>
              <a:t>Technical Assistance for Revising and Complementing the Feasibility Study</a:t>
            </a:r>
            <a:r>
              <a:rPr b="1" lang="ro-RO" sz="1600" spc="-1" strike="noStrike">
                <a:solidFill>
                  <a:srgbClr val="2f5897"/>
                </a:solidFill>
                <a:latin typeface="Cambria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2f5897"/>
                </a:solidFill>
                <a:latin typeface="Cambria"/>
                <a:ea typeface="Times New Roman"/>
              </a:rPr>
              <a:t>Regarding the Improvement of Navigation Conditions on the Romanian-Bulgarian Common Sector of the Danube and Complementary Studies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Project period : November 2014 –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Decembre 2018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Project budget: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5.252</a:t>
            </a:r>
            <a:r>
              <a:rPr b="0" lang="en-GB" sz="1600" spc="-1" strike="noStrike">
                <a:solidFill>
                  <a:srgbClr val="2f5897"/>
                </a:solidFill>
                <a:latin typeface="Palatino Linotype"/>
              </a:rPr>
              <a:t>.000 euros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 (85% FC and 15% state budget, Connecting Europe Facility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During the tender procedure 8 offers were submitted and the evaluation process started on 17</a:t>
            </a:r>
            <a:r>
              <a:rPr b="0" lang="en-US" sz="1600" spc="-1" strike="noStrike" baseline="30000">
                <a:solidFill>
                  <a:srgbClr val="2f5897"/>
                </a:solidFill>
                <a:latin typeface="Palatino Linotype"/>
              </a:rPr>
              <a:t>th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o-RO" sz="1600" spc="-1" strike="noStrike">
                <a:solidFill>
                  <a:srgbClr val="2f5897"/>
                </a:solidFill>
                <a:latin typeface="Palatino Linotype"/>
              </a:rPr>
              <a:t>March</a:t>
            </a: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 2016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f5897"/>
                </a:solidFill>
                <a:latin typeface="Palatino Linotype"/>
              </a:rPr>
              <a:t>Estimated time for signing the contract: October 2016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5" name="Object 1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Select the ‘critical’ river sections ;</a:t>
            </a:r>
            <a:br>
              <a:rPr sz="16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Undertake the necessary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 hydrological, hydrographical, topographical and sediments </a:t>
            </a: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surveys;</a:t>
            </a:r>
            <a:br>
              <a:rPr sz="16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Prepare design alternatives (including dredging requirements) – fully considering as well the </a:t>
            </a:r>
            <a:r>
              <a:rPr b="1" lang="en-US" sz="1600" spc="-1" strike="noStrike">
                <a:solidFill>
                  <a:srgbClr val="2f5897"/>
                </a:solidFill>
                <a:latin typeface="Palatino Linotype"/>
              </a:rPr>
              <a:t>environmental</a:t>
            </a: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 protection objectives.</a:t>
            </a:r>
            <a:br>
              <a:rPr sz="18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Prepare the necessary mathematical models;</a:t>
            </a:r>
            <a:br>
              <a:rPr sz="16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Perform the Interdependency Test;</a:t>
            </a:r>
            <a:br>
              <a:rPr sz="16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Apply all new data and mathematical modelling results for proposing preliminary designs which use the proposed engineering solutions (dredging, groins, sills, chevrons etc.) and where possible non-structural measures</a:t>
            </a:r>
            <a:br>
              <a:rPr sz="16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Compare and rank the design alternatives in terms of their technical feasibility and effectiveness;</a:t>
            </a:r>
            <a:br>
              <a:rPr sz="1600"/>
            </a:b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Quantify the impact of the various designs on the Natura</a:t>
            </a:r>
            <a:r>
              <a:rPr b="1" lang="ro-RO" sz="16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en-GB" sz="1600" spc="-1" strike="noStrike">
                <a:solidFill>
                  <a:srgbClr val="2f5897"/>
                </a:solidFill>
                <a:latin typeface="Palatino Linotype"/>
              </a:rPr>
              <a:t>2000 sites.</a:t>
            </a:r>
            <a:br>
              <a:rPr sz="1600"/>
            </a:br>
            <a:endParaRPr b="0" lang="en-US" sz="16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7" name="Object 9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956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9:35:15Z</dcterms:created>
  <dc:creator>Monica.Patrichi</dc:creator>
  <dc:description/>
  <dc:language>en-US</dc:language>
  <cp:lastModifiedBy>admin</cp:lastModifiedBy>
  <dcterms:modified xsi:type="dcterms:W3CDTF">2016-09-16T07:00:03Z</dcterms:modified>
  <cp:revision>39</cp:revision>
  <dc:subject/>
  <dc:title>Satus of the projects for the improvment of   7th Workshop on the Follow-up of the Joint Statement on Guiding Principles on the Development of Inland Navigation and Environmental Protection in the Danube River Basin</dc:title>
</cp:coreProperties>
</file>