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AutoShape 1"/>
          <p:cNvSpPr/>
          <p:nvPr/>
        </p:nvSpPr>
        <p:spPr>
          <a:xfrm>
            <a:off x="0" y="0"/>
            <a:ext cx="6805440" cy="994428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44280"/>
              <a:gd name="textAreaBottom" fmla="*/ 9943920 h 9944280"/>
            </a:gdLst>
            <a:ahLst/>
            <a:rect l="textAreaLeft" t="textAreaTop" r="textAreaRight" b="textAreaBottom"/>
            <a:pathLst>
              <a:path w="21600" h="31562">
                <a:moveTo>
                  <a:pt x="5" y="0"/>
                </a:moveTo>
                <a:arcTo wR="5" hR="5" stAng="16200000" swAng="-5400000"/>
                <a:lnTo>
                  <a:pt x="0" y="31557"/>
                </a:lnTo>
                <a:arcTo wR="5" hR="5" stAng="10800000" swAng="-5400000"/>
                <a:lnTo>
                  <a:pt x="21595" y="3156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0" y="0"/>
            <a:ext cx="6805440" cy="99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854520" y="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90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0" y="944712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Num" idx="44"/>
          </p:nvPr>
        </p:nvSpPr>
        <p:spPr>
          <a:xfrm>
            <a:off x="385416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C3A87-02CB-49C1-AB44-AA120853DC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318CF-EE94-4296-B1CE-6D84EBA2533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6C4A1-3BEF-4816-8115-D57AC8DC60B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2560" y="4723920"/>
            <a:ext cx="5440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3F80A-AEFC-46DB-B1E2-C135F51E3A0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0662-F420-4B0A-92E5-4D8332E91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F0E2-D11A-4C72-A5E4-809E3208311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383ED-1409-4E5D-8BD2-528DEDF9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857CD-85EE-4316-931A-F4158590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6E53F-708D-49E5-B070-32856E43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988C5-97C0-4208-9E26-858D6BFD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89820-12EF-47EC-AD9C-DE4728CB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EE603-3EB4-4822-AB18-8414C605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66E0E-0CF1-40B9-BCCC-F866101F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F02AA-835A-4563-8A5D-B82DF022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7DDF4-931B-43FC-8021-3F6C7180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B5F01-B15E-4BC6-98F6-E715BE03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B697-2477-4B7E-98D7-229C0746890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8B9F0-3905-4B6F-8280-06387652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86E91-B029-40F9-B0B6-EA591985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68B36-A1E6-40ED-BBF9-3AEDF1EC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4E50E-B867-4657-BDEB-10D0AF2B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F3B89-E2EB-4832-AAE2-14245CB5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49237-7507-4A2B-82FF-43ED8178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DA4D7-2CDE-4C8C-8CE6-ACE610D1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02B77-D986-495E-AEB1-9CE5FC3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D800C-5A07-47F8-AD6D-B8172833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3210D-0525-486D-8B81-BE6BC149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766F-D443-46CF-98AF-3A7AEDEBE2C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938A2-0443-4B44-8667-1C721087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77B69C-86AF-414F-A846-F8263A90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D55E42-8524-4947-A399-4FA34CB6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1C4A50-C9E5-47E4-85A8-54F9767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833EA8-847B-4F59-BDC6-2D5FD813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CD3E4B-4742-4B9F-ACD7-A9216911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80A673-FCCA-46E7-8155-557FEB98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26D360-E1ED-489C-9C24-F16A603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288BE0-D6DC-4723-95CA-F93DD40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1471C8-CB10-49AA-879B-F5E15E1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597DE-0353-4EB4-B3F9-E0B83543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152410-E6B0-4FC1-B1B4-699C2B8E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FB12AD-4652-4992-B80B-15074807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1EBA96-CE8F-4397-9412-14B62F66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CEE28-D2B3-4D28-ACA8-3AE573EF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AA3F4-AE43-45DD-9270-1B2E3C5C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911C1-5C61-4C0F-BFB0-0C6A6DE6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A5B6B-F484-45F4-8DCA-AAD35A2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582DC-0AEA-469F-BF91-180E28FA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F591C-2F9E-4FAB-BAD6-221E6AA1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2EA71-425B-4BBB-90DC-B12D333A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96454-83B1-47C3-8DF9-AE4B2F23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28A58-04C4-46EA-8F1E-FDCC812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8F160-9703-4AE7-927F-B5F5ECB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44297-32AE-4813-AB39-67E09EB0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6231B-B024-4E6E-9A28-BE769BDC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37176-260A-472D-A544-12E0AEE0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D1675E-0CBC-4DE7-B489-D3E7E137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5CC0E8-7CB2-465F-83FD-FBEE8291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184560-67BF-4A26-B888-62DFE4A3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8CE445-4EBB-4108-B975-BB115D8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81751E-9441-4788-882F-D7D3532B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53A1D-4B7A-4FF1-985C-E6BDBA5F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2DC93F-787B-451F-82DB-51C35B26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51F5E9-FA10-416E-827B-FED26E65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9E42E9-1F05-4BEC-9F0F-0A8055E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2E0232-422A-4A16-829C-84D32872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CE15E5-27E6-484B-B586-2EE2F5BC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235C57-45C8-4634-AF18-E65544C7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1D0C1F-0BCF-4EB8-9392-4C69EFC4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2B3D6D-1DF1-4B25-8D9D-8C745691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838157-AD52-40A2-8FE7-D3410745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FF7B79-968A-43FF-B8D0-FC0B6C27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4705F-11F6-40DB-8374-294610AA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230A45-E793-4F14-86F1-BF9AA818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CE76B6-1EA2-4ADF-B867-98F6A883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15EECE-81FE-42EC-ABF0-4E97B673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4748BA-D40C-49D2-8C5F-EF55B133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76E399-D46B-48C9-89E0-FAD21B8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0677D6-9A99-42CF-A08C-156F41D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EA1995-2D79-4D12-A730-38565397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3A6BC5-11E9-464E-8CE7-D6DFA947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871487-B000-4000-B4B5-16C6FDEC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F2DC3A-7DA0-410A-A665-842EF98D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D76D4-CE71-465E-9DFD-E3C7EF0A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6C5551-B411-4ACC-A9B5-0B89FC34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D460CE-8DBB-43AA-A820-6283F637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B61DB9-CF86-4D29-9C44-06705E22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CFCF64-CB3C-4A26-BCE9-3536EA4F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E832774-2282-4BBD-9A42-8DCBFCEB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25053D-B994-4620-8208-9D76E829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4C8772-A888-465E-900D-455E86AD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5AFE4A-FAF0-4FD9-89FA-E41DB334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426424-2999-423E-9E9E-5526A9CC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0F3145-79BD-4077-A519-A554FCB3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993FE-C6A1-403F-B36C-CDCD1FCA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BBD0B9-8DB7-4CD1-97D0-62821082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D7342-9025-43D4-ABA6-1EE9F552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3892-E7E2-469B-964D-36F7D01FD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639D9-1100-4AC8-AF63-2DE9EECE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CAFDC-C503-4C42-8B73-5A6648D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42721-32E5-4B7A-9CE4-65B40D8D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0267F-24BD-4624-BD4B-FB873BEB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EA3BC-A6E9-4389-A8C3-53E60B6A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B524C-9F9D-4452-B545-E9665C09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B5BC9-FD5D-4950-98C2-5DDADEF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F1A29-1D30-4A90-8719-7C82E4F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6D233-93CF-4EB8-B6D8-8629A43F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AAAA9-E00D-4529-88E6-30F49483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2337-3512-4746-920E-D2502B91A9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4D273-44F5-4C63-9965-27CE91A8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362F5-4DB3-4B89-AE0A-375D1F6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814E0A-E1BD-4C7F-BA81-5895100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FC2A60-2D56-4E76-A054-A2C6E35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3EB82-DD39-452A-896B-84EFBB39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AC893-0886-48B4-9038-2A9A15D9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652D5F-147D-48CB-BDAB-3FC51D85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5988D-8445-4345-8516-21230006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B4CED-BB44-433A-B394-5BEC48DE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35C99-0272-415F-B6DC-7DE3CD77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2119-920C-44CB-B2E1-AE77044D9C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644DF-C237-456D-8431-8B07986B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FB820-AA84-4A3D-9576-0A1D1FEF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DD22F5-455F-44E2-8D7F-0E40586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5AEB6-F0B0-4B99-A914-04DC531B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FB404-440B-40F4-88DE-AC2ABF7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47AB8-8BBA-480C-A5B8-0504E0F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541C6-E901-4D18-A84E-3E76442F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82C94-9799-4A45-BFFA-A002AF48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0A334-4D6D-4414-92C1-2200A219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CAE062-E353-42AA-8E4C-DCF9EFB4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D0AF-5093-4A54-8923-A86501477A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53F2B-738A-41A4-880A-27FC3D3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F1471-B9A0-4E3C-AC9A-2F6F7BBB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8711A-E409-4D7A-A813-03E55389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FE4CB-1A50-4E85-9D37-B0767D53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7E8DAF-5A9C-46D7-9D12-C0F47771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4399E0-D39D-41D7-9B48-32DC78CD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6DA685-7403-45CC-A5F9-73C3D0F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CCFDF1-4214-4AD3-B273-431D735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FEEFED-E54B-4111-9441-30CA119F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7ABB1A-B69A-42BA-9001-F981B241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FBEB-BFE5-476C-B9AE-96ED2A884A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1F08D8-C791-408D-B5F0-F268ECA6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3CDF0F-6B8F-45C8-B1A8-588A0898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80729-7293-4193-B85A-696A87D2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9D5F05-8913-40D9-BE69-D3A7308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CF7831-B44C-4749-8E2E-89281852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BA3C80-B41D-49CF-A1F3-9284DB62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62DA65-4D21-423B-99B4-2B834913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62D491-A530-4D14-85CB-06CAAAB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4B5774-AEDF-4061-B8FB-7CF87DA2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61D931-91FB-4529-ACA5-C3350548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7A62-761A-4456-ABEC-61484829AB5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03AAD5-8046-4977-BE98-C36727B2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5C2CAC-B022-49C4-BFCF-87D80B5C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45EA81-A99E-4A7A-AEE3-2F5ABD0B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FD52FF-3143-4F89-8A62-DB073B58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41F805-8E69-4E47-91AB-2282BB4E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7B11EC-F165-4E77-A240-BCB35378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22E1B3-2FA4-4A20-A8CB-B6C36A0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8A657-78C8-4C66-BD08-930CD33B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B6AF2E-7DE0-42D3-9243-079C755B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CF64DC-9E1D-4ABF-8C0C-75D28FE1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5DF4-45B3-48C6-ABF5-D0BA1D5A1E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1A835A-F3C2-4C8D-B11B-8A14152B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537D60-0A5D-4554-96E3-C5415401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7F6484-9299-4872-90E9-D37ED198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245A63-93C4-469E-A748-C9065428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71CD17-12AD-4A37-AF55-1139836B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70373E-FD5C-4130-AEFF-E9CCBBC4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67292C-B415-4460-9CF0-84D83AB0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2A19BD-6673-469A-ABDD-EDE1E992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8EAFA5-3246-4693-AA93-63D8A327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2DDDCA-10F5-4F51-BE83-B6BF0A79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B98C-FC1F-42E7-A741-B5697DE0C27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90AEE1-04A5-48BD-B891-A9125E01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62AC23-8593-4783-B7ED-679B0B2F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D7020B-29BD-42FC-A6ED-C5A4217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D6775E-95E4-450B-AACC-A832D75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0E980B-DB67-4909-AC68-725FA7F8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8C0446-CD34-48A1-963C-77DC557A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755133-C33C-4AD7-BB13-482ECACC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A9AC3-D2C3-4C6B-9EAF-70E8A9DC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51E8A-DBD6-4762-9C96-2E813591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24458-61D8-40C7-B313-BCE73F1E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981000"/>
            <a:ext cx="9134640" cy="5877000"/>
          </a:xfrm>
          <a:custGeom>
            <a:avLst/>
            <a:gdLst>
              <a:gd name="textAreaLeft" fmla="*/ 0 w 9134640"/>
              <a:gd name="textAreaRight" fmla="*/ 9135000 w 9134640"/>
              <a:gd name="textAreaTop" fmla="*/ 0 h 5877000"/>
              <a:gd name="textAreaBottom" fmla="*/ 5877360 h 587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2" name="AutoShape 3"/>
          <p:cNvSpPr/>
          <p:nvPr/>
        </p:nvSpPr>
        <p:spPr>
          <a:xfrm>
            <a:off x="426240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C5BCDE-3C52-4600-9328-186729E9DD17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1040AF-00E7-4BFA-B71E-2EDE471FB9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AC06CC-FE98-4EFD-AEBD-9138664398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672B34-04CD-4395-A134-3F920408A8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612D9E-5E03-4192-9B08-E8FFA3E6BB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210A1E-6495-4BCC-BF98-6C5383DDF9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D22714-88D9-4B4F-B517-5528521F34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8922A5-ACFA-4FDD-BF3F-4280889D92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C4784D-E09B-49E9-9315-A10687C020EA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3132000" y="5516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5490CF-62AC-419D-83D4-846F67D1E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0E38BA-AFEB-474D-8425-CEEA0F9F93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9D1E1C-65FC-4F7B-97B5-6E413E4FC3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7BCE38-406A-45F3-A062-711A5ACB9A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D68F25-4275-4885-97FC-24C4F7611D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876F7B-B784-402D-84CB-27B35B66CB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ec.europa.eu/inea/sites/inea/files/cef_transport_stat_for_web.pdf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5" descr=""/>
          <p:cNvPicPr/>
          <p:nvPr/>
        </p:nvPicPr>
        <p:blipFill>
          <a:blip r:embed="rId1"/>
          <a:stretch/>
        </p:blipFill>
        <p:spPr>
          <a:xfrm>
            <a:off x="1116000" y="1209600"/>
            <a:ext cx="6696000" cy="550548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461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1440"/>
                <a:tab algn="l" pos="557280"/>
                <a:tab algn="l" pos="1471680"/>
                <a:tab algn="l" pos="2386080"/>
                <a:tab algn="l" pos="3300480"/>
                <a:tab algn="l" pos="4214880"/>
                <a:tab algn="l" pos="5129280"/>
                <a:tab algn="l" pos="6043680"/>
                <a:tab algn="l" pos="6958080"/>
                <a:tab algn="l" pos="7872480"/>
                <a:tab algn="l" pos="8786880"/>
                <a:tab algn="l" pos="970128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CEF Transport </a:t>
            </a:r>
            <a:br>
              <a:rPr sz="3600"/>
            </a:b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Results and future calls.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Outlook on Rhine-Danube CNC inland waterways navigation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1" name="TextBox 1"/>
          <p:cNvSpPr/>
          <p:nvPr/>
        </p:nvSpPr>
        <p:spPr>
          <a:xfrm>
            <a:off x="4572000" y="5589720"/>
            <a:ext cx="3384720" cy="916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European Commi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Joint Statement Worksho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udapest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5-16 September 201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1880" y="1339920"/>
            <a:ext cx="82137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hine-Danube corridor. Work Plan II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539280" y="3328920"/>
            <a:ext cx="6551640" cy="204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geographical connotation of the Rhine-Danube Corridor underlines the importance of setting up a multimodal, interoperable, interconnected and reliable transport system in the reg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6270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hine-Danube corrido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360" y="2491920"/>
            <a:ext cx="6696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ail and road infrastructures are the architecture of connectivity both for passengers and for freigh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owever, particularly in this Core Corridor, inland waterways transport can perform an important role for the development of the region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070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Sustainable and efficient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 inland waterways transport </a:t>
            </a: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(1/3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50920" y="2491920"/>
            <a:ext cx="7634160" cy="352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o achieve it, the following conditions are needed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* </a:t>
            </a: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Political wil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* Sound and Sustainable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* Sufficient funds for infrastructur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* Maintenance instru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7566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ustainable and efficient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inland waterways transport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(2/3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79280" y="2491920"/>
            <a:ext cx="8640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What is ongoing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Policy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-major developments to structure the secto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-integration into the Core Network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-Ministerial Meeting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Sustainable development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-close cooperation between environment &amp; econom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-creation of Mixed Team of Expe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1880" y="1339920"/>
            <a:ext cx="81424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ustainable and efficient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inland waterways transport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(3/3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68360" y="2492280"/>
            <a:ext cx="7920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What is ongoing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Infrastructure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-funds from CEF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-funds from Structural Fund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Maintenance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-Master Plan for maintenanc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-funding of equip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468000" y="2491920"/>
            <a:ext cx="4895640" cy="3529080"/>
          </a:xfrm>
          <a:prstGeom prst="rect">
            <a:avLst/>
          </a:prstGeom>
          <a:ln w="0">
            <a:noFill/>
          </a:ln>
        </p:spPr>
      </p:pic>
      <p:pic>
        <p:nvPicPr>
          <p:cNvPr id="727" name="Image 150" descr=""/>
          <p:cNvPicPr/>
          <p:nvPr/>
        </p:nvPicPr>
        <p:blipFill>
          <a:blip r:embed="rId2"/>
          <a:stretch/>
        </p:blipFill>
        <p:spPr>
          <a:xfrm>
            <a:off x="-36360" y="1268280"/>
            <a:ext cx="918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468000" y="2491920"/>
            <a:ext cx="4895640" cy="3529080"/>
          </a:xfrm>
          <a:prstGeom prst="rect">
            <a:avLst/>
          </a:prstGeom>
          <a:ln w="0">
            <a:noFill/>
          </a:ln>
        </p:spPr>
      </p:pic>
      <p:pic>
        <p:nvPicPr>
          <p:cNvPr id="730" name="Image 13" descr=""/>
          <p:cNvPicPr/>
          <p:nvPr/>
        </p:nvPicPr>
        <p:blipFill>
          <a:blip r:embed="rId2"/>
          <a:stretch/>
        </p:blipFill>
        <p:spPr>
          <a:xfrm>
            <a:off x="0" y="1341360"/>
            <a:ext cx="9109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Box 1"/>
          <p:cNvSpPr/>
          <p:nvPr/>
        </p:nvSpPr>
        <p:spPr>
          <a:xfrm>
            <a:off x="330120" y="1006560"/>
            <a:ext cx="612144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alibri"/>
              </a:rPr>
              <a:t>For more information on CEF results, projects and call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'Implementing CEF Transport 2014-2015 – Connecting Europe Today'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800" spc="-1" strike="noStrike">
                <a:solidFill>
                  <a:srgbClr val="002060"/>
                </a:solidFill>
                <a:latin typeface="Calibri"/>
              </a:rPr>
              <a:t>http://ec.europa.eu/inea</a:t>
            </a:r>
            <a:r>
              <a:rPr b="0" lang="en-GB" sz="18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2" name="Picture 3" descr="H:\My Documents\2012 C Bernabei documents\2016 07 28 trasferiti su Medion\2016 06 19-22 Rotterdam TEN-T Days\DSC00939.JPG"/>
          <p:cNvPicPr/>
          <p:nvPr/>
        </p:nvPicPr>
        <p:blipFill>
          <a:blip r:embed="rId2"/>
          <a:stretch/>
        </p:blipFill>
        <p:spPr>
          <a:xfrm>
            <a:off x="3564000" y="2317680"/>
            <a:ext cx="5186160" cy="3888000"/>
          </a:xfrm>
          <a:prstGeom prst="rect">
            <a:avLst/>
          </a:prstGeom>
          <a:ln w="0">
            <a:noFill/>
          </a:ln>
        </p:spPr>
      </p:pic>
      <p:sp>
        <p:nvSpPr>
          <p:cNvPr id="733" name="TextBox 2"/>
          <p:cNvSpPr/>
          <p:nvPr/>
        </p:nvSpPr>
        <p:spPr>
          <a:xfrm>
            <a:off x="654120" y="3722760"/>
            <a:ext cx="2874960" cy="10688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3200" spc="-1" strike="noStrike">
                <a:solidFill>
                  <a:srgbClr val="ff0000"/>
                </a:solidFill>
                <a:latin typeface="Calibri"/>
              </a:rPr>
              <a:t>Thank you for your attentio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429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livering further on Commission top prior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73" name="Content Placeholder 5" descr=""/>
          <p:cNvPicPr/>
          <p:nvPr/>
        </p:nvPicPr>
        <p:blipFill>
          <a:blip r:embed="rId1"/>
          <a:stretch/>
        </p:blipFill>
        <p:spPr>
          <a:xfrm>
            <a:off x="414360" y="2712960"/>
            <a:ext cx="8308800" cy="3675240"/>
          </a:xfrm>
          <a:prstGeom prst="rect">
            <a:avLst/>
          </a:prstGeom>
          <a:ln w="0">
            <a:noFill/>
          </a:ln>
        </p:spPr>
      </p:pic>
      <p:sp>
        <p:nvSpPr>
          <p:cNvPr id="674" name="TextBox 2"/>
          <p:cNvSpPr/>
          <p:nvPr/>
        </p:nvSpPr>
        <p:spPr>
          <a:xfrm>
            <a:off x="5651640" y="218592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Total CEF Transport budget: €24.1 bill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0200" y="6091200"/>
            <a:ext cx="89647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86% of CEF Transport budget for grants awarded after 2014 and 2015 call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6" name="Rounded Rectangle 20"/>
          <p:cNvSpPr/>
          <p:nvPr/>
        </p:nvSpPr>
        <p:spPr>
          <a:xfrm>
            <a:off x="160200" y="1968480"/>
            <a:ext cx="5977080" cy="6732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TextBox 3"/>
          <p:cNvSpPr/>
          <p:nvPr/>
        </p:nvSpPr>
        <p:spPr>
          <a:xfrm>
            <a:off x="439560" y="2057400"/>
            <a:ext cx="52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CEF Transpor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€</a:t>
            </a: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22.6 billion for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gra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Rounded Rectangle 24"/>
          <p:cNvSpPr/>
          <p:nvPr/>
        </p:nvSpPr>
        <p:spPr>
          <a:xfrm>
            <a:off x="2414520" y="2873520"/>
            <a:ext cx="1928880" cy="8553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Rounded Rectangle 35"/>
          <p:cNvSpPr/>
          <p:nvPr/>
        </p:nvSpPr>
        <p:spPr>
          <a:xfrm>
            <a:off x="345960" y="2873520"/>
            <a:ext cx="1771920" cy="817560"/>
          </a:xfrm>
          <a:prstGeom prst="roundRect">
            <a:avLst>
              <a:gd name="adj" fmla="val 16667"/>
            </a:avLst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TextBox 7"/>
          <p:cNvSpPr/>
          <p:nvPr/>
        </p:nvSpPr>
        <p:spPr>
          <a:xfrm>
            <a:off x="422280" y="286056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eneral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envelop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€</a:t>
            </a: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11.1 bill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TextBox 39"/>
          <p:cNvSpPr/>
          <p:nvPr/>
        </p:nvSpPr>
        <p:spPr>
          <a:xfrm>
            <a:off x="2395440" y="2908440"/>
            <a:ext cx="185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hesion envelop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€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11.3 bill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Rounded Rectangle 46"/>
          <p:cNvSpPr/>
          <p:nvPr/>
        </p:nvSpPr>
        <p:spPr>
          <a:xfrm>
            <a:off x="345960" y="3854520"/>
            <a:ext cx="1770120" cy="884160"/>
          </a:xfrm>
          <a:prstGeom prst="roundRect">
            <a:avLst>
              <a:gd name="adj" fmla="val 16667"/>
            </a:avLst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Rounded Rectangle 47"/>
          <p:cNvSpPr/>
          <p:nvPr/>
        </p:nvSpPr>
        <p:spPr>
          <a:xfrm>
            <a:off x="388800" y="4906800"/>
            <a:ext cx="1770120" cy="884520"/>
          </a:xfrm>
          <a:prstGeom prst="roundRect">
            <a:avLst>
              <a:gd name="adj" fmla="val 16667"/>
            </a:avLst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TextBox 15"/>
          <p:cNvSpPr/>
          <p:nvPr/>
        </p:nvSpPr>
        <p:spPr>
          <a:xfrm>
            <a:off x="379440" y="3803760"/>
            <a:ext cx="163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€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9.4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ill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award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TextBox 19"/>
          <p:cNvSpPr/>
          <p:nvPr/>
        </p:nvSpPr>
        <p:spPr>
          <a:xfrm>
            <a:off x="422280" y="4954680"/>
            <a:ext cx="17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€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1.7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ill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remain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Rounded Rectangle 51"/>
          <p:cNvSpPr/>
          <p:nvPr/>
        </p:nvSpPr>
        <p:spPr>
          <a:xfrm>
            <a:off x="6802560" y="2894040"/>
            <a:ext cx="1711080" cy="8557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Rounded Rectangle 52"/>
          <p:cNvSpPr/>
          <p:nvPr/>
        </p:nvSpPr>
        <p:spPr>
          <a:xfrm>
            <a:off x="6835680" y="3881520"/>
            <a:ext cx="1711440" cy="8557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TextBox 21"/>
          <p:cNvSpPr/>
          <p:nvPr/>
        </p:nvSpPr>
        <p:spPr>
          <a:xfrm>
            <a:off x="6802560" y="2932200"/>
            <a:ext cx="171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€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ver 200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ill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mitt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TextBox 36"/>
          <p:cNvSpPr/>
          <p:nvPr/>
        </p:nvSpPr>
        <p:spPr>
          <a:xfrm>
            <a:off x="6835680" y="3878280"/>
            <a:ext cx="171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€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1.35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bill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main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Rounded Rectangle 17"/>
          <p:cNvSpPr/>
          <p:nvPr/>
        </p:nvSpPr>
        <p:spPr>
          <a:xfrm>
            <a:off x="6497640" y="1995480"/>
            <a:ext cx="2374920" cy="6462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TextBox 18"/>
          <p:cNvSpPr/>
          <p:nvPr/>
        </p:nvSpPr>
        <p:spPr>
          <a:xfrm>
            <a:off x="6541920" y="20257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CEF Transpor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€</a:t>
            </a: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1.55 billion for </a:t>
            </a: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F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Rounded Rectangle 22"/>
          <p:cNvSpPr/>
          <p:nvPr/>
        </p:nvSpPr>
        <p:spPr>
          <a:xfrm>
            <a:off x="2540160" y="3817800"/>
            <a:ext cx="1711080" cy="8557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Rounded Rectangle 23"/>
          <p:cNvSpPr/>
          <p:nvPr/>
        </p:nvSpPr>
        <p:spPr>
          <a:xfrm>
            <a:off x="2573280" y="4805280"/>
            <a:ext cx="1711440" cy="8557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TextBox 25"/>
          <p:cNvSpPr/>
          <p:nvPr/>
        </p:nvSpPr>
        <p:spPr>
          <a:xfrm>
            <a:off x="2540160" y="3830760"/>
            <a:ext cx="171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€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10.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bill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ward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TextBox 26"/>
          <p:cNvSpPr/>
          <p:nvPr/>
        </p:nvSpPr>
        <p:spPr>
          <a:xfrm>
            <a:off x="2573280" y="4802040"/>
            <a:ext cx="171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€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1.1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bill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main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Rounded Rectangle 30"/>
          <p:cNvSpPr/>
          <p:nvPr/>
        </p:nvSpPr>
        <p:spPr>
          <a:xfrm>
            <a:off x="4522680" y="2863800"/>
            <a:ext cx="1731960" cy="2768760"/>
          </a:xfrm>
          <a:custGeom>
            <a:avLst/>
            <a:gdLst>
              <a:gd name="textAreaLeft" fmla="*/ 84240 w 1731960"/>
              <a:gd name="textAreaRight" fmla="*/ 1647720 w 1731960"/>
              <a:gd name="textAreaTop" fmla="*/ 84240 h 2768760"/>
              <a:gd name="textAreaBottom" fmla="*/ 2684520 h 2768760"/>
            </a:gdLst>
            <a:ahLst/>
            <a:rect l="textAreaLeft" t="textAreaTop" r="textAreaRight" b="textAreaBottom"/>
            <a:pathLst>
              <a:path w="21600" h="34528">
                <a:moveTo>
                  <a:pt x="3600" y="0"/>
                </a:moveTo>
                <a:arcTo wR="3600" hR="3600" stAng="16200000" swAng="-5400000"/>
                <a:lnTo>
                  <a:pt x="0" y="30928"/>
                </a:lnTo>
                <a:arcTo wR="3600" hR="3600" stAng="10800000" swAng="-5400000"/>
                <a:lnTo>
                  <a:pt x="18000" y="34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TextBox 31"/>
          <p:cNvSpPr/>
          <p:nvPr/>
        </p:nvSpPr>
        <p:spPr>
          <a:xfrm>
            <a:off x="4468680" y="3384720"/>
            <a:ext cx="1785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SA and other expenditures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€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175 million</a:t>
            </a:r>
            <a:br>
              <a:rPr sz="1600"/>
            </a:b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mitt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Rounded Rectangle 41"/>
          <p:cNvSpPr/>
          <p:nvPr/>
        </p:nvSpPr>
        <p:spPr>
          <a:xfrm>
            <a:off x="160200" y="1268280"/>
            <a:ext cx="8712360" cy="48276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TextBox 42"/>
          <p:cNvSpPr/>
          <p:nvPr/>
        </p:nvSpPr>
        <p:spPr>
          <a:xfrm>
            <a:off x="690480" y="1341360"/>
            <a:ext cx="7610400" cy="33732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CEF Transport: €24.1 billion total budget (2014-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74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Strong uptake in Cohesion MS: 6 have fully used their national envelop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332000" y="2492280"/>
          <a:ext cx="6335640" cy="3919680"/>
        </p:xfrm>
        <a:graphic>
          <a:graphicData uri="http://schemas.openxmlformats.org/drawingml/2006/table">
            <a:tbl>
              <a:tblPr/>
              <a:tblGrid>
                <a:gridCol w="1584360"/>
                <a:gridCol w="4751280"/>
              </a:tblGrid>
              <a:tr h="57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mption rate of national envelope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lg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.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ypr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zech Republ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.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on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at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.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unga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uan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tv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.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.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oven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ovak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b1a0c7"/>
                      </a:solidFill>
                    </a:lnL>
                    <a:lnR>
                      <a:noFill/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.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b1a0c7"/>
                      </a:solidFill>
                    </a:lnR>
                    <a:lnT w="2880">
                      <a:solidFill>
                        <a:srgbClr val="b1a0c7"/>
                      </a:solidFill>
                    </a:lnT>
                    <a:lnB w="2880">
                      <a:solidFill>
                        <a:srgbClr val="b1a0c7"/>
                      </a:solidFill>
                    </a:lnB>
                    <a:solidFill>
                      <a:srgbClr val="cec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CEF 2016 calls </a:t>
            </a:r>
            <a:br>
              <a:rPr sz="2400"/>
            </a:b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2016 Annual and Multi-Annual Work Programm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250920" y="2349360"/>
          <a:ext cx="8642160" cy="395928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447840"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c00000"/>
                          </a:solidFill>
                          <a:latin typeface="Verdana"/>
                        </a:rPr>
                        <a:t>Indicative timet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doption of AP and MAP 20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2060"/>
                          </a:solidFill>
                          <a:latin typeface="Verdana"/>
                          <a:ea typeface="Microsoft YaHei"/>
                        </a:rPr>
                        <a:t>16 September 20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ation of C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2060"/>
                          </a:solidFill>
                          <a:latin typeface="Verdana"/>
                          <a:ea typeface="Microsoft YaHei"/>
                        </a:rPr>
                        <a:t>mid October 20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all Dead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1 January 2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ternal &amp; Internal Evalu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March 2017 – April 2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4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Vote in CEF Committ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May 2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0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doption of Selection Deci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July 2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0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reparation and Signature of Grant Agree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eptember 2017- December 20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353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8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  <a:ea typeface="Arial"/>
              </a:rPr>
              <a:t>2016 CEF Multi-annual Work Programm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611280" y="2133720"/>
          <a:ext cx="7996320" cy="4638600"/>
        </p:xfrm>
        <a:graphic>
          <a:graphicData uri="http://schemas.openxmlformats.org/drawingml/2006/table">
            <a:tbl>
              <a:tblPr/>
              <a:tblGrid>
                <a:gridCol w="6408720"/>
                <a:gridCol w="1587600"/>
              </a:tblGrid>
              <a:tr h="718920">
                <a:tc>
                  <a:txBody>
                    <a:bodyPr lIns="68760" rIns="68760" tIns="36000" bIns="36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F envelo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€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ill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02000">
                <a:tc>
                  <a:txBody>
                    <a:bodyPr lIns="68760" rIns="68760" tIns="36000" bIns="36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(SESAR, ITS, Innovation, ERTMS, Core network nodes, Mo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  <a:ea typeface="Calibri"/>
                        </a:rPr>
                        <a:t>6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00200">
                <a:tc>
                  <a:txBody>
                    <a:bodyPr lIns="68760" rIns="68760" tIns="36000" bIns="36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he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(Rail and inland waterways, Rail interoperability, ERTMS, Innovation, Safe and secure infrastructure, SESAR, ITS, MoS, Core Network nodes and Multimodal logistics platform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  <a:ea typeface="Calibri"/>
                        </a:rPr>
                        <a:t>849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7480"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2060"/>
                          </a:solidFill>
                          <a:latin typeface="Verdana"/>
                          <a:ea typeface="Calibri"/>
                        </a:rPr>
                        <a:t>1499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353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8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  <a:ea typeface="Arial"/>
              </a:rPr>
              <a:t>2016 CEF Annual Work Programm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611280" y="2133720"/>
          <a:ext cx="7996320" cy="4640040"/>
        </p:xfrm>
        <a:graphic>
          <a:graphicData uri="http://schemas.openxmlformats.org/drawingml/2006/table">
            <a:tbl>
              <a:tblPr/>
              <a:tblGrid>
                <a:gridCol w="6408720"/>
                <a:gridCol w="1587600"/>
              </a:tblGrid>
              <a:tr h="720720">
                <a:tc>
                  <a:txBody>
                    <a:bodyPr lIns="68760" rIns="68760" tIns="36000" bIns="36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F envelo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€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ill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00200">
                <a:tc>
                  <a:txBody>
                    <a:bodyPr lIns="68760" rIns="68760" tIns="36000" bIns="36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(</a:t>
                      </a:r>
                      <a:r>
                        <a:rPr b="0" lang="en-GB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reight transport services, Rail freight noise, Cross-border connections to neighbouring countries and Cross-border infrastructure projects in the TEN-T Core and Comprehensive networks which are not pre-identified in Annex I of the CE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2060"/>
                          </a:solidFill>
                          <a:latin typeface="Verdana"/>
                          <a:ea typeface="Calibri"/>
                        </a:rPr>
                        <a:t>19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601640">
                <a:tc>
                  <a:txBody>
                    <a:bodyPr lIns="68760" rIns="68760" tIns="36000" bIns="36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he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(</a:t>
                      </a:r>
                      <a:r>
                        <a:rPr b="0" lang="en-GB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rastructure projects on the TEN-T Core network which are not pre-identified in Annex I of the CEF Regulation</a:t>
                      </a: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  <a:ea typeface="Calibri"/>
                        </a:rPr>
                        <a:t>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7480"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2060"/>
                          </a:solidFill>
                          <a:latin typeface="Verdana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36000" bIns="36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2060"/>
                          </a:solidFill>
                          <a:latin typeface="Verdana"/>
                          <a:ea typeface="Calibri"/>
                        </a:rPr>
                        <a:t>4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57695f"/>
                      </a:solidFill>
                    </a:lnL>
                    <a:lnR w="5760">
                      <a:solidFill>
                        <a:srgbClr val="57695f"/>
                      </a:solidFill>
                    </a:lnR>
                    <a:lnT w="5760">
                      <a:solidFill>
                        <a:srgbClr val="57695f"/>
                      </a:solidFill>
                    </a:lnT>
                    <a:lnB w="5760">
                      <a:solidFill>
                        <a:srgbClr val="57695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67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0000"/>
                </a:solidFill>
                <a:latin typeface="Verdana"/>
              </a:rPr>
              <a:t>Call for projects connecting with third country networks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119160" y="1988640"/>
            <a:ext cx="89899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nnection of the core network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t border crossing point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cluding infrastructure necessary to ensure seamless traffic flow, i.e. border checks, border surveillance and other border control procedur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tudies and work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nnection between the core network and the transport networks of neighbouring countries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side the territory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f the neighbouring country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tudi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frastructure in neighbouring countries which serves a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links between parts of the Union core network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tudi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lementation of traffic management systems in neighbouring countries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tudies and work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f5494"/>
                </a:solidFill>
                <a:latin typeface="Verdana"/>
              </a:rPr>
              <a:t>(NB Motorways of the Sea - eligible under the general envelope call)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studies and works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f5494"/>
                </a:solidFill>
                <a:latin typeface="Verdana"/>
              </a:rPr>
              <a:t>excluding third country ports infrastructure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0" name="Oval 1"/>
          <p:cNvSpPr/>
          <p:nvPr/>
        </p:nvSpPr>
        <p:spPr>
          <a:xfrm>
            <a:off x="1619280" y="6237360"/>
            <a:ext cx="36734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marL="32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7494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Outlook on Rhine-Danube CNC inland waterways navig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468000" y="2491920"/>
            <a:ext cx="4895640" cy="35290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" descr="H:\My Documents\2012 C Bernabei documents\2016 07 28 trasferiti su Medion\2016 07 28 Foto trasferite su Medion\2016\2016 05 30 - 06 06 Bruxelles-Veere-Zeeland\DSC00792.JPG"/>
          <p:cNvPicPr/>
          <p:nvPr/>
        </p:nvPicPr>
        <p:blipFill>
          <a:blip r:embed="rId2"/>
          <a:stretch/>
        </p:blipFill>
        <p:spPr>
          <a:xfrm>
            <a:off x="0" y="2997360"/>
            <a:ext cx="9144000" cy="20095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5" descr="H:\My Documents\2012 C Bernabei documents\2016 07 28 trasferiti su Medion\2016 07 28 Foto trasferite su Medion\2016\2016 05 30 - 06 06 Bruxelles-Veere-Zeeland\DSC00792.JPG"/>
          <p:cNvPicPr/>
          <p:nvPr/>
        </p:nvPicPr>
        <p:blipFill>
          <a:blip r:embed="rId3"/>
          <a:stretch/>
        </p:blipFill>
        <p:spPr>
          <a:xfrm>
            <a:off x="0" y="2424240"/>
            <a:ext cx="914400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5:51:44Z</dcterms:created>
  <dc:creator>BERTRAND Matthieu (MOVE)</dc:creator>
  <dc:description/>
  <dc:language>en-US</dc:language>
  <cp:lastModifiedBy>BERNABEI Cesare (MOVE)</cp:lastModifiedBy>
  <cp:lastPrinted>2016-09-12T14:14:29Z</cp:lastPrinted>
  <dcterms:modified xsi:type="dcterms:W3CDTF">2016-09-13T13:09:19Z</dcterms:modified>
  <cp:revision>293</cp:revision>
  <dc:subject/>
  <dc:title>The Connecting Europe Facility &amp; its Financial instruments, catalysts for infrastructure financing</dc:title>
</cp:coreProperties>
</file>